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01613-F978-4F0B-BB2F-C50FE9F19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68BA6-C4C3-4A7F-B860-9FE66084E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AC30C-8ACD-471E-AADA-D0CE07E7A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E6E4E-10A8-4E30-9620-0E6EE6790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36D76-F17A-4F46-9B8F-8A84D2E96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00394-5795-411E-8971-FD46D9788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FDF64-6F3E-409E-8C3B-8E10C7F06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36BD9-CB31-47DE-A890-239E55072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E58EF-A3A4-44F1-9A1F-9E160BA74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37090-B985-469F-8642-C3C8CDE48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C64CE-5FBF-4E7B-BF4A-B75EC691A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9D90D-CC8C-4DB9-89F5-C5336F940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74E80-F550-4643-AAFA-A4B0CA901F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Arial"/>
              </a:rPr>
              <a:t>REMOTE ASSE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FILETYPE: PP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05T19:33:39Z</dcterms:created>
  <dc:creator>Josh Lenius</dc:creator>
  <dc:description/>
  <dc:language>en-US</dc:language>
  <cp:lastModifiedBy>Josh Lenius</cp:lastModifiedBy>
  <dcterms:modified xsi:type="dcterms:W3CDTF">2018-03-05T19:34:59Z</dcterms:modified>
  <cp:revision>3</cp:revision>
  <dc:subject/>
  <dc:title>REMOTE ASSET</dc:title>
</cp:coreProperties>
</file>