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E41D-A15D-446D-A8BE-89E51AA3E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CA7F-6235-4D2D-ABE8-8FB89C9D3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EE94-1325-4AC4-9DE8-FB7D9870F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936D-34A8-4A2F-A1CB-8D364081E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8B8C-3572-4100-A0EA-621575C58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D23E-0FA6-4DBF-BEB7-D3BAA79C6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E37E-8681-46B8-8C28-03E36D7F0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1AE7-DBDD-465F-A09B-56D0AEA99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0880-65D9-4CCA-BE16-A8AA8074B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2293-C6A7-41EC-9373-24D051BD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E187-4E92-47D9-A2FE-1042D54A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95F1-B7BA-4175-A73D-252F7ABD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D7809-0F43-449A-A836-211D72063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mailto:edward@jsunit.ne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programming.com/software.htm" TargetMode="External"/><Relationship Id="rId2" Type="http://schemas.openxmlformats.org/officeDocument/2006/relationships/hyperlink" Target="http://xprogramming.com/software.ht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http://www.jsunit.net/" TargetMode="External"/><Relationship Id="rId3" Type="http://schemas.openxmlformats.org/officeDocument/2006/relationships/hyperlink" Target="http://www.jsunit.net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</a:t>
            </a:r>
            <a:br>
              <a:rPr sz="4400"/>
            </a:b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8960" y="3428640"/>
            <a:ext cx="69339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troduction to unit testing in-browser JavaScript with 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Hie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dward@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ruary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sUnit version 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95280" y="563868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Arial"/>
              </a:rPr>
              <a:t>Note: this presentation assumes the reader/audience is familiar with basic unit testing concep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 Tracing (debugging outpu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ncludes certain functions that output “traces” to a debugging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 way to view output without using JavaScript “aler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n alternative to a debugger if one is not available for a certain browser/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3 trace 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bug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arn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form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particular run of the tests, you can set the trace level to any of the 3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s cascade, i.e. trace message at lower levels show up when the level is set hig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orted Browsers/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 Internet Explorer 5.5+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NT/2000/XP/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9,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cko-based 0.9.4+ browsers on all platforms, e.g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zilla 0.9.4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fox 0.9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scape 6.2.3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queror 5+ on Linux KDE 3.0.1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ari 1.2+ on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the most FA’d 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s not usually appropriate for submitting forms/other navigation that interacts with a web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intended to test purely client-side functionality – it’s a unit testing framework of the in-browser JavaScript that usually lives in .js files included by generated/static HTML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“walking through” a web application should be done in HTTPUnit/JWeb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ost cases, the desire to submit a form points at the need to instead mock out the submission in order to create a true unit t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ere is currently work in progress to support the ability for a Test Page to submit a form in a separate page that lives in a Frame/IFrame in the 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he automation of runs of JsUnit Test Pages/Suites on multiple local or remote browsers/OSs from an Ant script or JUnit suite (and hence in a continuous buil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oals of automated test ru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seen how JsUnit allows you to run your tests in almost any particular browser on most 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desirable to be able to easily run your tests 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your target brows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you are writing code and tests, without having to manually start up each browser and press “Ru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part of a regression test suite in a continuous bui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lso important that the tests be run on target browsers on all the target OSs, rather than just one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ant to get instant feedback on which test failed on which browser on which OS, and also create logs of each te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s, we don’t want to have to get out of our seat and go to a bank of test machines running various browsers – we want visual or programmatic feedback, as we get with the green b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on on a single machine: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sUnit provides a Java JUnit TestCase class call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t.jsunit.Standalone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daloneTest can be invoked from the JsUnit Ant build.x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can configure StandaloneTest with respect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browsers to run tests in (a list of paths to browser executabl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Test Page to run (usually it is your highest-level Test Suite Pag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run, StandaloneTest starts each browser in turn and runs the specified Test Page without any user inter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ny test fails in any of the browsers, Standalone Test fails with a failure message indicating which test failed in which brow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 for the machine we are using with the push of a butt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starts a lightweight Java HTTP server called the JsUnit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browser is launched as an external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ain parameters are passed in the TestRunner URL that tell the test runner to collect results in a form field and submit the form to the JsUnitServer over HT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sUnitServer waits for all browsers to finish, and inspects the submit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y browser fails, StandaloneTest f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utomation on multiple machines: DistributedTes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loneTest allows for automated runs on a single machine, but we still need to be able to automatically launch all our tests on all target 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eans we need to be able to programmatically kick off JsUnit tests on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sUnit provides a second Java JUnit TestCase class call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t.jsunit.Distributed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dTest is configured to be aware of a list of multiple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run, DistributedTest asks each remote machine in turn to run specified Tests on the browsers relevant for the respective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remote machine runs the specified tests on each browser relevant to its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ny test fails on any browser on any remote machine, DistributedTest fails with an error message indicating the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/OS combinations with the push of a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ributed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tart a JsUnit server on each remot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 server is configured with target browsers for its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servers listen for requests from DistributedTest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Test tells each remote JsUnit server (over HTTP)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Server runs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JsUnitServer, if any test fails on any browser, a failure message is sent back to DistributedTest; otherwise a success message is returned (the messages are XML strin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y failure message is received, DistributedTest f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nning in a continuous bu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can be repeatedly run by a developer as he/she is writing code and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StandaloneTest is a JUnit test, so it can be added to a JUnit suite just like any other test, and thereby run in a continuous bu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ly, because JsUnit can be launched from Ant, the Ant task can be added to a continuous build (such as Anthill or Cruise Contr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riting and manually running JavaScript Tests with the XUnit framework for in-browser JavaScri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run, StandaloneTest writes a log file to d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lename is generated (and unique) or it can be specified by a parameter in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g file format matches JUnit’s; the details of each Test Function are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Log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543800" cy="4857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601120" y="6019920"/>
            <a:ext cx="54288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n XUnit frame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andardized set of language-independent concepts and constructs for writing and running unit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n XUnit framework for virtually every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are JUnit for Java, CppUnit for C++, PHPUnit for PHP, UTPL/SQL for Oracle 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ly open-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upport certain constru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Case and TestSuite are well-defined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ssertion syntax follows rough standards, e.g. assertEquals(comment, expected, actu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rovide a TestRunner program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d a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xprogramming.com/software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XUnit framework for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sunit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(hosted on Sourcefor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rves the standards of a typical XUnit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ten in 100%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s on “most” browser/platform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began in early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10,000 downloads and ~1000 members of the news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: conforming to XUn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tests in JsUnit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Functions live in an HTML page called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est Page is any HTML page that has a JavaScript “include”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vides the assertion functions of JsUnit, e.g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sertEquals(comment, arg1, arg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suppor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Up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arDow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Suite P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lar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ite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 that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TestSu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grouping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stRunner.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ge runs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stRunner HTML page can be run from a file server or a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nit &lt;-&gt; JsU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953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jsunit/app/jsUnitCore.j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Suite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HTML/JS TestRu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browser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 junit.framework.Test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it.framework.TestSu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WT/Swing/IDE TestRu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Java V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1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some simple math (code in Test P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 src="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../app/jsUnitCore.j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multiplyAndAddF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arg1, arg2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arg1*arg2+5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2 times 3 plus 5 is 11", 11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work with negative numbers", -15, multiplyAndAddFive(-4, 5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In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null argument", multiplyAndAddFive(2, null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tring argument", multiplyAndAddFive(2, "a string"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undefined argument", multiplyAndAddFive(2,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JSUNIT_UNDEFINED_VAL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StrictReturnTyp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o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return a number, not a string", "11"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Test Page for multiplyAndAddFive(arg1, arg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2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form field/DOM interaction (code in .js f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jsunit/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pp/jsUnitCor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my/app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/myCod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//contains a “validate”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setUp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foo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InitialCondition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PushOK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No value in field 2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FillingInField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bar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Good values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tearDow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pushOKButton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alidate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form name=“myForm”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div id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resultMessag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&gt;&lt;/div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button” value=“OK” onclick=“validate()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sUnit: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6320" y="914400"/>
            <a:ext cx="80658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3T15:55:42Z</dcterms:created>
  <dc:creator>Edward Hieatt</dc:creator>
  <dc:description/>
  <dc:language>en-US</dc:language>
  <cp:lastModifiedBy>Edward Hieatt</cp:lastModifiedBy>
  <dcterms:modified xsi:type="dcterms:W3CDTF">2007-02-18T21:34:52Z</dcterms:modified>
  <cp:revision>353</cp:revision>
  <dc:subject/>
  <dc:title>JsUnit</dc:title>
</cp:coreProperties>
</file>