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34C-B674-4C83-A377-A4B1FC39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52A-832C-4B5B-A2FA-2A3FA3CA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BDA-D1DA-4950-BB7F-3C0AADA4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ABF-332E-4DB8-8F46-16F3D60A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CE6-10CA-486A-82FE-07C13F2B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E4B-3998-4E7D-9F1C-ACBB18FF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A55-0E68-43AD-8654-6274EFD3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816-D2D0-4F4D-9752-FCE1430F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8CF-C8ED-4B48-B4B3-80D50023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E1D-031A-40AE-A4A3-B9099507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471-996B-4722-A8A0-F994376C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FE6-8B85-4329-9FB2-65DFF55C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AA95-B0F3-498D-9A7C-8D1783F24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DSpace Text Extra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st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 first poi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ick brown fox jumped over the laz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quick as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 clos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pace can extract the text from your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it a try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8:22:40Z</dcterms:created>
  <dc:creator>Tim Donohue</dc:creator>
  <dc:description/>
  <dc:language>en-US</dc:language>
  <cp:lastModifiedBy>Tim Donohue</cp:lastModifiedBy>
  <dcterms:modified xsi:type="dcterms:W3CDTF">2022-03-30T18:26:15Z</dcterms:modified>
  <cp:revision>1</cp:revision>
  <dc:subject/>
  <dc:title>DSpace Text Extraction</dc:title>
</cp:coreProperties>
</file>