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C2F9-E204-487A-AE55-73505E7C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FE06-8D18-40C3-866C-75094F07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F59-4F7C-4CD9-9C52-54F8EE7B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CEC1-A548-4E79-9276-AFDDD81F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CB90-9326-4D6E-8755-863A6C75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1C4-C1AF-46E0-975C-7D637EAA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16BD-1771-480F-BADD-6517D4BF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77F-75B5-404E-93D4-86F31794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4A93-0837-4AD7-93FD-7E92BF6C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B65-E939-4A11-8293-1FD8C3DC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3B1A-0849-4AB7-8B9F-9FEF33D7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1A5-ADF5-4C30-A053-A2FD40DF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82C1-823D-42FC-BFBC-82C9AE9D1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DSpace Text Extrac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est 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 first poi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ick brown fox jumped over the lazy 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 quick as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In clos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Space can extract the text from your presentation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it a try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18:22:40Z</dcterms:created>
  <dc:creator>Tim Donohue</dc:creator>
  <dc:description/>
  <dc:language>en-US</dc:language>
  <cp:lastModifiedBy>Tim Donohue</cp:lastModifiedBy>
  <dcterms:modified xsi:type="dcterms:W3CDTF">2022-03-30T18:26:15Z</dcterms:modified>
  <cp:revision>1</cp:revision>
  <dc:subject/>
  <dc:title>DSpace Text Extraction</dc:title>
</cp:coreProperties>
</file>