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5127-60A9-41CE-B1F4-98BC3E7D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FEA7-53EE-41A8-9197-CB2CA60F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187C-882B-4E1C-84EC-BE9B56EA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A66C-DF59-4361-9A54-E37C2D7EC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02B5-CCEA-4404-9A7A-B5FF73DB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D6DB-CD81-4A73-9327-81C12B5F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3419-753A-40E8-B518-1A67BE10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BBCA-BCA8-4B3F-AB29-F8C56908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1E63-6452-4701-965D-4CC8B42D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3F7A-45A8-4920-A88A-446EB444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CE13-4CB9-44DD-86A1-1F2926CC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5209-D7C6-4FD5-BB27-09A9C538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C83E-91DF-427C-A6FD-98FAA8EE2E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DSpace Text Extraction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est 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 first poin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quick brown fox jumped over the lazy d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A quick as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In closing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Space can extract the text from your presentation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 it a try your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30T18:22:40Z</dcterms:created>
  <dc:creator>Tim Donohue</dc:creator>
  <dc:description/>
  <dc:language>en-US</dc:language>
  <cp:lastModifiedBy>Tim Donohue</cp:lastModifiedBy>
  <dcterms:modified xsi:type="dcterms:W3CDTF">2022-03-30T18:26:15Z</dcterms:modified>
  <cp:revision>1</cp:revision>
  <dc:subject/>
  <dc:title>DSpace Text Extraction</dc:title>
</cp:coreProperties>
</file>