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36B-F674-4203-B5AB-0D0584B1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528-7B66-4257-894D-8722C07E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E88-13DF-4F3F-ACE5-E774C88E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A53-031F-488F-88E6-4A1E1EE5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A84-5287-4E7E-8457-FCB92F7B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44D-C32F-490E-B1D8-E8519330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7E4-4C97-49CD-9C16-F22A5343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48F-0546-4051-A6B4-83FE1229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970-652E-4D81-A6A6-10F6FB6F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BF9F-9959-419D-9703-08C89C0B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8C3-6B42-46B7-BD9D-F3E8E141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F5C-7F14-4E3F-B10E-18CE6E25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706C-2CEE-4A8A-A9C2-6D338BD66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DSpace Text Extrac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st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 first poi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ick brown fox jumped over the laz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quick as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 clos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pace can extract the text from your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it a try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8:22:40Z</dcterms:created>
  <dc:creator>Tim Donohue</dc:creator>
  <dc:description/>
  <dc:language>en-US</dc:language>
  <cp:lastModifiedBy>Tim Donohue</cp:lastModifiedBy>
  <dcterms:modified xsi:type="dcterms:W3CDTF">2022-03-30T18:26:15Z</dcterms:modified>
  <cp:revision>1</cp:revision>
  <dc:subject/>
  <dc:title>DSpace Text Extraction</dc:title>
</cp:coreProperties>
</file>