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CAE-BCC2-4A9F-8F94-FB3B9DEB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463-DB37-4012-A73A-9F4FD0DD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303-638B-4754-8035-1B807A82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D7D-BDE3-4BDA-BAFD-1118CCF1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849-378F-4833-86FF-70DE346F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395-E58C-45DC-B1FD-E7AFFCC4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571-4758-4EA2-B79A-C3E5C819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3B6-B02A-420E-B7EC-6956C773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284-6AFF-4713-8E30-857ABCBE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5F4-7398-4AB9-8CCE-FD4ADCB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641-4C29-4381-BE44-00564F7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16B-AC11-4F0C-84CE-374970B0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62C2-B8E5-4095-8EFE-95D94F9C2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DSpace Text Extraction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est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 first poi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ick brown fox jumped over the laz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 quick as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m ipsum dolor sit a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 clos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Space can extract the text from your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it a try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30T18:22:40Z</dcterms:created>
  <dc:creator>Tim Donohue</dc:creator>
  <dc:description/>
  <dc:language>en-US</dc:language>
  <cp:lastModifiedBy>Tim Donohue</cp:lastModifiedBy>
  <dcterms:modified xsi:type="dcterms:W3CDTF">2022-03-30T18:26:15Z</dcterms:modified>
  <cp:revision>1</cp:revision>
  <dc:subject/>
  <dc:title>DSpace Text Extraction</dc:title>
</cp:coreProperties>
</file>