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839450" cy="723582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6574-D340-4AAE-8D2C-98BD722DF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0720" y="642600"/>
            <a:ext cx="92156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0720" y="2090880"/>
            <a:ext cx="92156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0720" y="4358880"/>
            <a:ext cx="92156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BC91-CEFC-40C0-A505-DD36EC23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0720" y="642600"/>
            <a:ext cx="92156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0720" y="2090880"/>
            <a:ext cx="449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33200" y="2090880"/>
            <a:ext cx="449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0720" y="4358880"/>
            <a:ext cx="449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33200" y="4358880"/>
            <a:ext cx="449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3ABF-90C5-48EA-B02C-31C2DB592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0720" y="642600"/>
            <a:ext cx="92156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0720" y="2090880"/>
            <a:ext cx="296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6520" y="2090880"/>
            <a:ext cx="296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320" y="2090880"/>
            <a:ext cx="296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0720" y="4358880"/>
            <a:ext cx="296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6520" y="4358880"/>
            <a:ext cx="296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320" y="4358880"/>
            <a:ext cx="296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E249-DAD4-467A-A5CD-82BDDA457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0720" y="642600"/>
            <a:ext cx="92156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0720" y="2090880"/>
            <a:ext cx="92156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225C-8EF8-46D7-9BAB-0937E3C5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0720" y="642600"/>
            <a:ext cx="92156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0720" y="2090880"/>
            <a:ext cx="921564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CF1D-1E5A-4E97-9973-34E36069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0720" y="642600"/>
            <a:ext cx="92156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0720" y="2090880"/>
            <a:ext cx="449712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33200" y="2090880"/>
            <a:ext cx="449712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4250-EA9B-407B-A0EC-610D746B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0720" y="642600"/>
            <a:ext cx="92156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A156-C912-41BC-BE2C-3C66622F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0720" y="642600"/>
            <a:ext cx="92156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6A6E-A578-498A-ACB9-F79375E6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0720" y="642600"/>
            <a:ext cx="92156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0720" y="2090880"/>
            <a:ext cx="449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33200" y="2090880"/>
            <a:ext cx="449712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0720" y="4358880"/>
            <a:ext cx="449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9355-D069-499B-B62D-FA990975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0720" y="642600"/>
            <a:ext cx="92156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0720" y="2090880"/>
            <a:ext cx="449712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33200" y="2090880"/>
            <a:ext cx="449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33200" y="4358880"/>
            <a:ext cx="449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11F2-B41B-4986-93B8-386F8C73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0720" y="642600"/>
            <a:ext cx="92156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0720" y="2090880"/>
            <a:ext cx="449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33200" y="2090880"/>
            <a:ext cx="449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0720" y="4358880"/>
            <a:ext cx="92156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E314-6E7F-4270-82AD-88B4A2F2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0720" y="642600"/>
            <a:ext cx="92156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0720" y="2090880"/>
            <a:ext cx="921564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0720" y="6594480"/>
            <a:ext cx="22590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01520" y="6594480"/>
            <a:ext cx="343404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67360" y="6594480"/>
            <a:ext cx="22590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532B-97DA-4DF0-9B40-06947727C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77840" y="0"/>
            <a:ext cx="10650600" cy="7209000"/>
            <a:chOff x="177840" y="0"/>
            <a:chExt cx="10650600" cy="7209000"/>
          </a:xfrm>
        </p:grpSpPr>
        <p:sp>
          <p:nvSpPr>
            <p:cNvPr id="42" name=""/>
            <p:cNvSpPr/>
            <p:nvPr/>
          </p:nvSpPr>
          <p:spPr>
            <a:xfrm>
              <a:off x="3032280" y="5702400"/>
              <a:ext cx="2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2149560" y="5702400"/>
              <a:ext cx="76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27760" y="0"/>
              <a:ext cx="2357280" cy="307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&lt;Feature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uildingPa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76400" y="0"/>
              <a:ext cx="2355840" cy="309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&lt;Feature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uild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" name=""/>
            <p:cNvCxnSpPr>
              <a:stCxn id="47" idx="0"/>
              <a:endCxn id="48" idx="1"/>
            </p:cNvCxnSpPr>
            <p:nvPr/>
          </p:nvCxnSpPr>
          <p:spPr>
            <a:xfrm flipV="1">
              <a:off x="7059600" y="828720"/>
              <a:ext cx="905400" cy="9259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9" name=""/>
            <p:cNvSpPr/>
            <p:nvPr/>
          </p:nvSpPr>
          <p:spPr>
            <a:xfrm>
              <a:off x="7166520" y="669960"/>
              <a:ext cx="435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5400000">
              <a:off x="7622640" y="712800"/>
              <a:ext cx="57240" cy="507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703760" y="1698480"/>
              <a:ext cx="6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/>
            <p:nvPr/>
          </p:nvCxnSpPr>
          <p:spPr>
            <a:xfrm>
              <a:off x="5374800" y="307800"/>
              <a:ext cx="1080" cy="1240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3" name=""/>
            <p:cNvCxnSpPr>
              <a:stCxn id="45" idx="3"/>
              <a:endCxn id="51" idx="0"/>
            </p:cNvCxnSpPr>
            <p:nvPr/>
          </p:nvCxnSpPr>
          <p:spPr>
            <a:xfrm>
              <a:off x="4332240" y="154800"/>
              <a:ext cx="371880" cy="154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" name=""/>
            <p:cNvCxnSpPr>
              <a:stCxn id="44" idx="1"/>
              <a:endCxn id="51" idx="0"/>
            </p:cNvCxnSpPr>
            <p:nvPr/>
          </p:nvCxnSpPr>
          <p:spPr>
            <a:xfrm flipV="1" rot="10800000">
              <a:off x="4703760" y="153360"/>
              <a:ext cx="324360" cy="1545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5" name=""/>
            <p:cNvSpPr/>
            <p:nvPr/>
          </p:nvSpPr>
          <p:spPr>
            <a:xfrm rot="10800000">
              <a:off x="4649400" y="1565280"/>
              <a:ext cx="103320" cy="11592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42" y="63"/>
                  </a:lnTo>
                  <a:lnTo>
                    <a:pt x="0" y="6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332320" y="1522440"/>
              <a:ext cx="87480" cy="155520"/>
            </a:xfrm>
            <a:custGeom>
              <a:avLst/>
              <a:gdLst/>
              <a:ahLst/>
              <a:rect l="l" t="t" r="r" b="b"/>
              <a:pathLst>
                <a:path w="28" h="55">
                  <a:moveTo>
                    <a:pt x="14" y="55"/>
                  </a:moveTo>
                  <a:lnTo>
                    <a:pt x="0" y="28"/>
                  </a:lnTo>
                  <a:lnTo>
                    <a:pt x="14" y="0"/>
                  </a:lnTo>
                  <a:lnTo>
                    <a:pt x="28" y="28"/>
                  </a:lnTo>
                  <a:lnTo>
                    <a:pt x="14" y="5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055640" y="1546200"/>
              <a:ext cx="226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.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744680" y="851040"/>
              <a:ext cx="226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.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392720" y="1754280"/>
              <a:ext cx="6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921040" y="411120"/>
              <a:ext cx="693720" cy="308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&lt;Feature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i="1" lang="en-US" sz="800" spc="-1" strike="noStrike">
                  <a:solidFill>
                    <a:srgbClr val="000000"/>
                  </a:solidFill>
                  <a:latin typeface="Arial"/>
                </a:rPr>
                <a:t>_Si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" name=""/>
            <p:cNvCxnSpPr/>
            <p:nvPr/>
          </p:nvCxnSpPr>
          <p:spPr>
            <a:xfrm flipH="1">
              <a:off x="2968200" y="1842840"/>
              <a:ext cx="1302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2" name=""/>
            <p:cNvSpPr/>
            <p:nvPr/>
          </p:nvSpPr>
          <p:spPr>
            <a:xfrm>
              <a:off x="3316680" y="1708200"/>
              <a:ext cx="65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interiorRo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50680" y="191448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6200000">
              <a:off x="3237480" y="1749600"/>
              <a:ext cx="57240" cy="525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70320" y="1811160"/>
              <a:ext cx="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" name=""/>
            <p:cNvCxnSpPr>
              <a:stCxn id="60" idx="2"/>
              <a:endCxn id="59" idx="0"/>
            </p:cNvCxnSpPr>
            <p:nvPr/>
          </p:nvCxnSpPr>
          <p:spPr>
            <a:xfrm flipH="1" rot="16200000">
              <a:off x="3312720" y="673920"/>
              <a:ext cx="1035360" cy="1125360"/>
            </a:xfrm>
            <a:prstGeom prst="bentConnector3">
              <a:avLst>
                <a:gd name="adj1" fmla="val 50017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7" name=""/>
            <p:cNvSpPr/>
            <p:nvPr/>
          </p:nvSpPr>
          <p:spPr>
            <a:xfrm>
              <a:off x="3219480" y="720720"/>
              <a:ext cx="103320" cy="11592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42" y="63"/>
                  </a:lnTo>
                  <a:lnTo>
                    <a:pt x="0" y="6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" name=""/>
            <p:cNvCxnSpPr>
              <a:stCxn id="60" idx="1"/>
              <a:endCxn id="69" idx="3"/>
            </p:cNvCxnSpPr>
            <p:nvPr/>
          </p:nvCxnSpPr>
          <p:spPr>
            <a:xfrm flipH="1">
              <a:off x="1704960" y="565200"/>
              <a:ext cx="121644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0" name=""/>
            <p:cNvSpPr/>
            <p:nvPr/>
          </p:nvSpPr>
          <p:spPr>
            <a:xfrm rot="16200000">
              <a:off x="1699920" y="512640"/>
              <a:ext cx="115920" cy="10332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42" y="63"/>
                  </a:lnTo>
                  <a:lnTo>
                    <a:pt x="0" y="6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1" name=""/>
            <p:cNvCxnSpPr/>
            <p:nvPr/>
          </p:nvCxnSpPr>
          <p:spPr>
            <a:xfrm flipH="1" rot="16200000">
              <a:off x="695880" y="96480"/>
              <a:ext cx="818280" cy="1624680"/>
            </a:xfrm>
            <a:prstGeom prst="bentConnector3">
              <a:avLst>
                <a:gd name="adj1" fmla="val 7623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2" name=""/>
            <p:cNvCxnSpPr/>
            <p:nvPr/>
          </p:nvCxnSpPr>
          <p:spPr>
            <a:xfrm flipH="1" rot="16200000">
              <a:off x="-458280" y="1866600"/>
              <a:ext cx="4266360" cy="2764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3" name=""/>
            <p:cNvSpPr/>
            <p:nvPr/>
          </p:nvSpPr>
          <p:spPr>
            <a:xfrm>
              <a:off x="1990800" y="3260880"/>
              <a:ext cx="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75" idx="0"/>
              <a:endCxn id="73" idx="0"/>
            </p:cNvCxnSpPr>
            <p:nvPr/>
          </p:nvCxnSpPr>
          <p:spPr>
            <a:xfrm>
              <a:off x="1989720" y="2104920"/>
              <a:ext cx="1440" cy="115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6" name=""/>
            <p:cNvSpPr/>
            <p:nvPr/>
          </p:nvSpPr>
          <p:spPr>
            <a:xfrm rot="16200000">
              <a:off x="1503720" y="2301840"/>
              <a:ext cx="790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interiorFurnit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946160" y="1951200"/>
              <a:ext cx="87480" cy="153720"/>
            </a:xfrm>
            <a:custGeom>
              <a:avLst/>
              <a:gdLst/>
              <a:ahLst/>
              <a:rect l="l" t="t" r="r" b="b"/>
              <a:pathLst>
                <a:path w="28" h="55">
                  <a:moveTo>
                    <a:pt x="14" y="55"/>
                  </a:moveTo>
                  <a:lnTo>
                    <a:pt x="0" y="28"/>
                  </a:lnTo>
                  <a:lnTo>
                    <a:pt x="14" y="0"/>
                  </a:lnTo>
                  <a:lnTo>
                    <a:pt x="28" y="28"/>
                  </a:lnTo>
                  <a:lnTo>
                    <a:pt x="14" y="5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989000" y="281448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1488600" y="2864880"/>
              <a:ext cx="3107520" cy="1602360"/>
            </a:xfrm>
            <a:prstGeom prst="bentConnector3">
              <a:avLst>
                <a:gd name="adj1" fmla="val 8021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9" name=""/>
            <p:cNvSpPr/>
            <p:nvPr/>
          </p:nvSpPr>
          <p:spPr>
            <a:xfrm>
              <a:off x="2216160" y="1957320"/>
              <a:ext cx="87480" cy="155520"/>
            </a:xfrm>
            <a:custGeom>
              <a:avLst/>
              <a:gdLst/>
              <a:ahLst/>
              <a:rect l="l" t="t" r="r" b="b"/>
              <a:pathLst>
                <a:path w="28" h="55">
                  <a:moveTo>
                    <a:pt x="14" y="55"/>
                  </a:moveTo>
                  <a:lnTo>
                    <a:pt x="0" y="28"/>
                  </a:lnTo>
                  <a:lnTo>
                    <a:pt x="14" y="0"/>
                  </a:lnTo>
                  <a:lnTo>
                    <a:pt x="28" y="28"/>
                  </a:lnTo>
                  <a:lnTo>
                    <a:pt x="14" y="5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839960" y="3424320"/>
              <a:ext cx="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>
              <a:stCxn id="82" idx="0"/>
            </p:cNvCxnSpPr>
            <p:nvPr/>
          </p:nvCxnSpPr>
          <p:spPr>
            <a:xfrm flipH="1" flipV="1">
              <a:off x="1809360" y="3600000"/>
              <a:ext cx="44280" cy="1726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3" name=""/>
            <p:cNvSpPr/>
            <p:nvPr/>
          </p:nvSpPr>
          <p:spPr>
            <a:xfrm rot="5400000">
              <a:off x="1581840" y="3936240"/>
              <a:ext cx="72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oD4Geomet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68360" y="5524560"/>
              <a:ext cx="730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od4Geomet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838160" y="5678640"/>
              <a:ext cx="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2205000" y="5571720"/>
              <a:ext cx="58680" cy="522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921360" y="2666880"/>
              <a:ext cx="0" cy="8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348080" y="2503440"/>
              <a:ext cx="6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" name=""/>
            <p:cNvCxnSpPr>
              <a:endCxn id="90" idx="0"/>
            </p:cNvCxnSpPr>
            <p:nvPr/>
          </p:nvCxnSpPr>
          <p:spPr>
            <a:xfrm flipH="1" rot="10800000">
              <a:off x="3970080" y="2470320"/>
              <a:ext cx="135720" cy="2748960"/>
            </a:xfrm>
            <a:prstGeom prst="bentConnector3">
              <a:avLst>
                <a:gd name="adj1" fmla="val -72606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0" name=""/>
            <p:cNvSpPr/>
            <p:nvPr/>
          </p:nvSpPr>
          <p:spPr>
            <a:xfrm rot="5400000">
              <a:off x="4126680" y="2400840"/>
              <a:ext cx="96840" cy="139680"/>
            </a:xfrm>
            <a:custGeom>
              <a:avLst/>
              <a:gdLst/>
              <a:ahLst/>
              <a:rect l="l" t="t" r="r" b="b"/>
              <a:pathLst>
                <a:path w="28" h="55">
                  <a:moveTo>
                    <a:pt x="14" y="55"/>
                  </a:moveTo>
                  <a:lnTo>
                    <a:pt x="0" y="28"/>
                  </a:lnTo>
                  <a:lnTo>
                    <a:pt x="14" y="0"/>
                  </a:lnTo>
                  <a:lnTo>
                    <a:pt x="28" y="28"/>
                  </a:lnTo>
                  <a:lnTo>
                    <a:pt x="14" y="5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5400000">
              <a:off x="3397320" y="3229560"/>
              <a:ext cx="1325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interiorerBuildingInstall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0800000">
              <a:off x="4025880" y="5500440"/>
              <a:ext cx="52560" cy="586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59400" y="2749680"/>
              <a:ext cx="55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109520" y="5614920"/>
              <a:ext cx="1041480" cy="308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Geometry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Arial"/>
                </a:rPr>
                <a:t>gml::_Geomet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5400000">
              <a:off x="4120920" y="1777680"/>
              <a:ext cx="96840" cy="138240"/>
            </a:xfrm>
            <a:custGeom>
              <a:avLst/>
              <a:gdLst/>
              <a:ahLst/>
              <a:rect l="l" t="t" r="r" b="b"/>
              <a:pathLst>
                <a:path w="28" h="55">
                  <a:moveTo>
                    <a:pt x="14" y="55"/>
                  </a:moveTo>
                  <a:lnTo>
                    <a:pt x="0" y="28"/>
                  </a:lnTo>
                  <a:lnTo>
                    <a:pt x="14" y="0"/>
                  </a:lnTo>
                  <a:lnTo>
                    <a:pt x="28" y="28"/>
                  </a:lnTo>
                  <a:lnTo>
                    <a:pt x="14" y="5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328760" y="1533600"/>
              <a:ext cx="1650960" cy="428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class[0..1]: RoomClass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function[0..*]: RoomFunction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usage[0..*]: RoomUsag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30200" y="1227240"/>
              <a:ext cx="1649520" cy="307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Feature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Ro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070080" y="188928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3760" y="82872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41200" y="716040"/>
              <a:ext cx="103320" cy="11592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42" y="63"/>
                  </a:lnTo>
                  <a:lnTo>
                    <a:pt x="0" y="6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36440" y="580392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03200" y="580392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702800" y="364500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09280" y="549756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162520" y="5803920"/>
              <a:ext cx="24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00000" y="341280"/>
              <a:ext cx="226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.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00400" y="227160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49880" y="1965240"/>
              <a:ext cx="24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0800000">
              <a:off x="1882440" y="2785680"/>
              <a:ext cx="50760" cy="586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742320" y="5280120"/>
              <a:ext cx="1041480" cy="307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RoomFunction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36680" y="192240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09480" y="580392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36560" y="6653160"/>
              <a:ext cx="0" cy="7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9680" y="3252960"/>
              <a:ext cx="1275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od4ImplicitRepresent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640800" y="2581200"/>
              <a:ext cx="1069920" cy="308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RoofTyp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596360" y="3578400"/>
              <a:ext cx="1126800" cy="307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BuildingClass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355680" y="5307120"/>
              <a:ext cx="104760" cy="115200"/>
              <a:chOff x="355680" y="5307120"/>
              <a:chExt cx="104760" cy="115200"/>
            </a:xfrm>
          </p:grpSpPr>
          <p:sp>
            <p:nvSpPr>
              <p:cNvPr id="118" name=""/>
              <p:cNvSpPr/>
              <p:nvPr/>
            </p:nvSpPr>
            <p:spPr>
              <a:xfrm flipV="1">
                <a:off x="355680" y="5306760"/>
                <a:ext cx="104400" cy="114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 rot="16200000">
                <a:off x="350280" y="5312160"/>
                <a:ext cx="115200" cy="10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20" name=""/>
            <p:cNvCxnSpPr>
              <a:stCxn id="119" idx="0"/>
              <a:endCxn id="121" idx="1"/>
            </p:cNvCxnSpPr>
            <p:nvPr/>
          </p:nvCxnSpPr>
          <p:spPr>
            <a:xfrm flipH="1" flipV="1" rot="5400000">
              <a:off x="50400" y="3716640"/>
              <a:ext cx="1896120" cy="1285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22" name=""/>
            <p:cNvSpPr/>
            <p:nvPr/>
          </p:nvSpPr>
          <p:spPr>
            <a:xfrm rot="10800000">
              <a:off x="1914480" y="5506560"/>
              <a:ext cx="52560" cy="586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00200" y="2584440"/>
              <a:ext cx="793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roomInstall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5400000">
              <a:off x="3263760" y="2625480"/>
              <a:ext cx="58680" cy="525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59600" y="1754280"/>
              <a:ext cx="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46560" y="1986120"/>
              <a:ext cx="3073320" cy="1379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+class[0..1]:BuildingClass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+function[0..*]: BuildingFunction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+usage[0..*]:BuildingUsag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+yearOfConstruction[0..1]: xs:gYea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+roofType[0..1]: RoofTyp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+measuredHeight[0..1]: gml:Length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+storeysAboveGound[0..1]: xs:nonNegativeInteg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+storeysBelowGround[0..1]: xs:nonNegativeInteg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+storeyHeightsAboveGround[0..1]: gml:MeasureOrNullList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+storeyHeightsBelowGround[0..1]: gml:MeasureOrNullList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46560" y="1682640"/>
              <a:ext cx="3073320" cy="308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Feature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Arial"/>
                </a:rPr>
                <a:t>_AbstractBuild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99240" y="4846680"/>
              <a:ext cx="1737000" cy="307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BuildingInstallationClass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6200000">
              <a:off x="4703760" y="947520"/>
              <a:ext cx="1103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consistsOfBuildingPa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38720" y="365040"/>
              <a:ext cx="52560" cy="586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3062160" y="5227560"/>
              <a:ext cx="2381040" cy="784080"/>
              <a:chOff x="3062160" y="5227560"/>
              <a:chExt cx="2381040" cy="784080"/>
            </a:xfrm>
          </p:grpSpPr>
          <p:sp>
            <p:nvSpPr>
              <p:cNvPr id="132" name=""/>
              <p:cNvSpPr/>
              <p:nvPr/>
            </p:nvSpPr>
            <p:spPr>
              <a:xfrm>
                <a:off x="3062160" y="5531760"/>
                <a:ext cx="2381040" cy="479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1640" rIns="71640" tIns="35640" bIns="35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+class[0..1]:IntBuildingInstallationClassTyp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+function[0..*]: IntBuildingInstallationFunctionTyp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+usage[0..*]:IntBuildingInstallationUsageTyp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062160" y="5227560"/>
                <a:ext cx="2381040" cy="3078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1640" rIns="71640" tIns="35640" bIns="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&lt;&lt;Feature&gt;&gt;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IntBuildingInstallat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34" name=""/>
            <p:cNvCxnSpPr>
              <a:stCxn id="135" idx="0"/>
              <a:endCxn id="136" idx="3"/>
            </p:cNvCxnSpPr>
            <p:nvPr/>
          </p:nvCxnSpPr>
          <p:spPr>
            <a:xfrm flipV="1">
              <a:off x="1630440" y="6004440"/>
              <a:ext cx="1440" cy="339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7" name=""/>
            <p:cNvCxnSpPr>
              <a:stCxn id="138" idx="1"/>
              <a:endCxn id="118" idx="0"/>
            </p:cNvCxnSpPr>
            <p:nvPr/>
          </p:nvCxnSpPr>
          <p:spPr>
            <a:xfrm rot="10800000">
              <a:off x="355320" y="5421960"/>
              <a:ext cx="321120" cy="1478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8" name=""/>
            <p:cNvSpPr/>
            <p:nvPr/>
          </p:nvSpPr>
          <p:spPr>
            <a:xfrm>
              <a:off x="676440" y="6591240"/>
              <a:ext cx="2257200" cy="6177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mimeType[0..1]: MimeTyp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referenceToLibrary[0..1]: xs:anyUR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transformation[0..1]: TransformationMatrix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referencePoint[1]: gml:PointProperty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9" name=""/>
            <p:cNvCxnSpPr>
              <a:endCxn id="94" idx="2"/>
            </p:cNvCxnSpPr>
            <p:nvPr/>
          </p:nvCxnSpPr>
          <p:spPr>
            <a:xfrm flipV="1">
              <a:off x="1630080" y="5923080"/>
              <a:ext cx="360" cy="98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0" name=""/>
            <p:cNvSpPr/>
            <p:nvPr/>
          </p:nvSpPr>
          <p:spPr>
            <a:xfrm>
              <a:off x="803160" y="6129360"/>
              <a:ext cx="849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relativeGeomet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88160" y="5943600"/>
              <a:ext cx="24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69680" y="614844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30440" y="6343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6440" y="6286680"/>
              <a:ext cx="2257200" cy="307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Objec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ImplicitGeomet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964640" y="674640"/>
              <a:ext cx="693720" cy="308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Feature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387000" y="1446120"/>
              <a:ext cx="868320" cy="308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Geometry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gml::MultiPo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5" name=""/>
            <p:cNvCxnSpPr>
              <a:stCxn id="48" idx="2"/>
              <a:endCxn id="144" idx="0"/>
            </p:cNvCxnSpPr>
            <p:nvPr/>
          </p:nvCxnSpPr>
          <p:spPr>
            <a:xfrm flipH="1" rot="16200000">
              <a:off x="8834760" y="459360"/>
              <a:ext cx="463680" cy="1510200"/>
            </a:xfrm>
            <a:prstGeom prst="bentConnector3">
              <a:avLst>
                <a:gd name="adj1" fmla="val 50038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6" name=""/>
            <p:cNvSpPr/>
            <p:nvPr/>
          </p:nvSpPr>
          <p:spPr>
            <a:xfrm>
              <a:off x="8932320" y="1060560"/>
              <a:ext cx="522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multiPo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835200" y="1292400"/>
              <a:ext cx="24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339040" y="100476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5400000">
              <a:off x="9474120" y="1103040"/>
              <a:ext cx="58680" cy="525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699480" y="363600"/>
              <a:ext cx="1041480" cy="155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(from xAL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1" name=""/>
            <p:cNvCxnSpPr>
              <a:stCxn id="48" idx="3"/>
              <a:endCxn id="150" idx="2"/>
            </p:cNvCxnSpPr>
            <p:nvPr/>
          </p:nvCxnSpPr>
          <p:spPr>
            <a:xfrm flipV="1">
              <a:off x="8658360" y="519120"/>
              <a:ext cx="1562040" cy="309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2" name=""/>
            <p:cNvSpPr/>
            <p:nvPr/>
          </p:nvSpPr>
          <p:spPr>
            <a:xfrm>
              <a:off x="9084960" y="673200"/>
              <a:ext cx="578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xalAdd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9719640" y="717480"/>
              <a:ext cx="59040" cy="522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654040" y="828720"/>
              <a:ext cx="24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231200" y="542880"/>
              <a:ext cx="129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699480" y="55440"/>
              <a:ext cx="1041480" cy="308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DataType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xAL::AddressDetail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618840" y="2174760"/>
              <a:ext cx="1104840" cy="308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MimeTyp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9155160" y="3005280"/>
              <a:ext cx="1558800" cy="461880"/>
              <a:chOff x="9155160" y="3005280"/>
              <a:chExt cx="1558800" cy="461880"/>
            </a:xfrm>
          </p:grpSpPr>
          <p:sp>
            <p:nvSpPr>
              <p:cNvPr id="159" name=""/>
              <p:cNvSpPr/>
              <p:nvPr/>
            </p:nvSpPr>
            <p:spPr>
              <a:xfrm>
                <a:off x="9155160" y="3005280"/>
                <a:ext cx="1558800" cy="3096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1640" rIns="71640" tIns="35640" bIns="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&lt;&lt;PrimitiveType&gt;&gt;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TransformationMatrix4x4Typ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9155160" y="3313080"/>
                <a:ext cx="1558800" cy="1540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1640" rIns="71640" tIns="35640" bIns="35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+xs:double[16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177840" y="411120"/>
              <a:ext cx="1527120" cy="308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Feature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Arial"/>
                </a:rPr>
                <a:t>_CityObj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774360" y="5686560"/>
              <a:ext cx="1041120" cy="309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RoomUsag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729720" y="4853160"/>
              <a:ext cx="1041480" cy="307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RoomClass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996400" y="3575160"/>
              <a:ext cx="1736640" cy="307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BuildingFurnitureClass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297000" y="3046320"/>
              <a:ext cx="141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1638360" y="2898720"/>
              <a:ext cx="2161800" cy="719280"/>
              <a:chOff x="1638360" y="2898720"/>
              <a:chExt cx="2161800" cy="719280"/>
            </a:xfrm>
          </p:grpSpPr>
          <p:sp>
            <p:nvSpPr>
              <p:cNvPr id="121" name=""/>
              <p:cNvSpPr/>
              <p:nvPr/>
            </p:nvSpPr>
            <p:spPr>
              <a:xfrm>
                <a:off x="1641240" y="3205080"/>
                <a:ext cx="2158920" cy="4129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1640" rIns="71640" tIns="35640" bIns="35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+class[0..1]:BuildingFurnitureClassTyp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+function[0..*]: BuildingFurnitureFunctionTyp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+usage[0..*]:BuildingFurnitureUsageTyp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638360" y="2898720"/>
                <a:ext cx="2160000" cy="30816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1640" rIns="71640" tIns="35640" bIns="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&lt;&lt;Feature&gt;&gt;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BuildingFurnitur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7596360" y="4013280"/>
              <a:ext cx="1126800" cy="309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BuildingFunction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596360" y="4424400"/>
              <a:ext cx="1126800" cy="307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BuildingUsag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593120" y="5281560"/>
              <a:ext cx="1736640" cy="309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BuildingInstallationFunction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591320" y="5700600"/>
              <a:ext cx="1737000" cy="308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BuildingInstallationUsag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009000" y="4002120"/>
              <a:ext cx="1736640" cy="307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BuildingFurnitureFunction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016920" y="4408560"/>
              <a:ext cx="1736640" cy="307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BuildingFurnitureUsag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86480" y="4848120"/>
              <a:ext cx="87120" cy="155520"/>
            </a:xfrm>
            <a:custGeom>
              <a:avLst/>
              <a:gdLst/>
              <a:ahLst/>
              <a:rect l="l" t="t" r="r" b="b"/>
              <a:pathLst>
                <a:path w="28" h="55">
                  <a:moveTo>
                    <a:pt x="14" y="55"/>
                  </a:moveTo>
                  <a:lnTo>
                    <a:pt x="0" y="28"/>
                  </a:lnTo>
                  <a:lnTo>
                    <a:pt x="14" y="0"/>
                  </a:lnTo>
                  <a:lnTo>
                    <a:pt x="28" y="28"/>
                  </a:lnTo>
                  <a:lnTo>
                    <a:pt x="14" y="5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5626080" y="4995720"/>
              <a:ext cx="1440" cy="174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5400000">
              <a:off x="5137560" y="5534640"/>
              <a:ext cx="1156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outerBuildingInstall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0800000">
              <a:off x="5673600" y="6203520"/>
              <a:ext cx="52560" cy="57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70200" y="627048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3483000" y="6370560"/>
              <a:ext cx="2251080" cy="785520"/>
              <a:chOff x="3483000" y="6370560"/>
              <a:chExt cx="2251080" cy="785520"/>
            </a:xfrm>
          </p:grpSpPr>
          <p:sp>
            <p:nvSpPr>
              <p:cNvPr id="179" name=""/>
              <p:cNvSpPr/>
              <p:nvPr/>
            </p:nvSpPr>
            <p:spPr>
              <a:xfrm>
                <a:off x="3483000" y="6675480"/>
                <a:ext cx="2251080" cy="4806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1640" rIns="71640" tIns="35640" bIns="35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+class[0..1]:BuildingInstallationClassTyp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+function[0..*]: BuildingInstallationFunctionTyp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+usage[0..*]:BuildingInstallationUsageTyp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483000" y="6370560"/>
                <a:ext cx="2251080" cy="30816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1640" rIns="71640" tIns="35640" bIns="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&lt;&lt;Feature&gt;&gt;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BuildingInstallat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1" name=""/>
            <p:cNvCxnSpPr>
              <a:stCxn id="182" idx="0"/>
              <a:endCxn id="180" idx="0"/>
            </p:cNvCxnSpPr>
            <p:nvPr/>
          </p:nvCxnSpPr>
          <p:spPr>
            <a:xfrm flipH="1" rot="16200000">
              <a:off x="3714120" y="5475960"/>
              <a:ext cx="213120" cy="1576440"/>
            </a:xfrm>
            <a:prstGeom prst="bentConnector5">
              <a:avLst>
                <a:gd name="adj1" fmla="val 81895"/>
                <a:gd name="adj2" fmla="val -18044"/>
                <a:gd name="adj3" fmla="val -158206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83" name=""/>
            <p:cNvCxnSpPr>
              <a:stCxn id="179" idx="1"/>
              <a:endCxn id="184" idx="0"/>
            </p:cNvCxnSpPr>
            <p:nvPr/>
          </p:nvCxnSpPr>
          <p:spPr>
            <a:xfrm rot="10800000">
              <a:off x="2978280" y="6369840"/>
              <a:ext cx="505080" cy="546120"/>
            </a:xfrm>
            <a:prstGeom prst="bentConnector3">
              <a:avLst>
                <a:gd name="adj1" fmla="val 145863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5" name=""/>
            <p:cNvSpPr/>
            <p:nvPr/>
          </p:nvSpPr>
          <p:spPr>
            <a:xfrm flipV="1">
              <a:off x="1930320" y="5924160"/>
              <a:ext cx="0" cy="18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96960" y="6148440"/>
              <a:ext cx="1153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lodXGeometry, X</a:t>
              </a:r>
              <a:r>
                <a:rPr b="0" lang="de-DE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[2..4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979720" y="63705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978280" y="5384880"/>
              <a:ext cx="2880" cy="9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10800000">
              <a:off x="4027320" y="5108040"/>
              <a:ext cx="52560" cy="57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08320" y="506088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41920" y="5172120"/>
              <a:ext cx="0" cy="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00080" y="623268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6200000">
              <a:off x="3331080" y="6197760"/>
              <a:ext cx="57240" cy="525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9028080" y="6107040"/>
              <a:ext cx="1800360" cy="287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IntBuildingInstallationUsag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34040" y="6100920"/>
              <a:ext cx="1800360" cy="287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IntBuildingInstallationFunction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9021600" y="6480000"/>
              <a:ext cx="1800360" cy="287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IntBuildingInstallationClass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1768320" y="5326200"/>
              <a:ext cx="84960" cy="115200"/>
              <a:chOff x="1768320" y="5326200"/>
              <a:chExt cx="84960" cy="115200"/>
            </a:xfrm>
          </p:grpSpPr>
          <p:sp>
            <p:nvSpPr>
              <p:cNvPr id="198" name=""/>
              <p:cNvSpPr/>
              <p:nvPr/>
            </p:nvSpPr>
            <p:spPr>
              <a:xfrm flipH="1" flipV="1">
                <a:off x="1768320" y="5325840"/>
                <a:ext cx="84960" cy="114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flipV="1" rot="5400000">
                <a:off x="1753200" y="5341320"/>
                <a:ext cx="115200" cy="84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1809720" y="5442120"/>
              <a:ext cx="0" cy="16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2917080" y="6053040"/>
              <a:ext cx="115200" cy="104760"/>
              <a:chOff x="2917080" y="6053040"/>
              <a:chExt cx="115200" cy="104760"/>
            </a:xfrm>
          </p:grpSpPr>
          <p:sp>
            <p:nvSpPr>
              <p:cNvPr id="201" name=""/>
              <p:cNvSpPr/>
              <p:nvPr/>
            </p:nvSpPr>
            <p:spPr>
              <a:xfrm flipH="1" flipV="1" rot="5400000">
                <a:off x="2922120" y="6048000"/>
                <a:ext cx="104400" cy="114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 flipV="1" rot="10800000">
                <a:off x="2917080" y="6052680"/>
                <a:ext cx="115200" cy="10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02" name=""/>
            <p:cNvCxnSpPr>
              <a:endCxn id="185" idx="0"/>
            </p:cNvCxnSpPr>
            <p:nvPr/>
          </p:nvCxnSpPr>
          <p:spPr>
            <a:xfrm flipV="1" rot="10800000">
              <a:off x="1930320" y="6102360"/>
              <a:ext cx="983160" cy="2160"/>
            </a:xfrm>
            <a:prstGeom prst="bentConnector3">
              <a:avLst>
                <a:gd name="adj1" fmla="val 38205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203" name=""/>
            <p:cNvSpPr/>
            <p:nvPr/>
          </p:nvSpPr>
          <p:spPr>
            <a:xfrm>
              <a:off x="5471640" y="494028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313360" y="1960560"/>
              <a:ext cx="24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709440" y="505764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2918520" y="5646600"/>
              <a:ext cx="115200" cy="104760"/>
              <a:chOff x="2918520" y="5646600"/>
              <a:chExt cx="115200" cy="104760"/>
            </a:xfrm>
          </p:grpSpPr>
          <p:sp>
            <p:nvSpPr>
              <p:cNvPr id="207" name=""/>
              <p:cNvSpPr/>
              <p:nvPr/>
            </p:nvSpPr>
            <p:spPr>
              <a:xfrm flipH="1" flipV="1" rot="5400000">
                <a:off x="2923560" y="5641560"/>
                <a:ext cx="104400" cy="114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 flipV="1" rot="10800000">
                <a:off x="2918520" y="5646240"/>
                <a:ext cx="115200" cy="10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4246560" y="3365640"/>
              <a:ext cx="3073320" cy="14810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buildingReflection[0..1]: xs:str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buildingReflectionCorrection[0..1]: gml:MeasureTyp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buildingLDenMax[0..1]: gml:Measur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buildingLDenMin[0..1]: gml:Measur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buildingLNightMax[0..1]: gml:Measur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buildingLNightMin[0..1]: gml:Measur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buildingLDenEq[0..1]: gml:Measur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buildingLNightEq[0..1]: gml:Measur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buildingHabitants[0..1]: xs:positiveInteg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buildingAppartments[0..1]: xs:positiveInteg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buildingImmissionPoints[0..1]: xs:IntLi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remark[0..1]: xs:str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14:33:38Z</dcterms:created>
  <dc:creator>Birgit Joemann</dc:creator>
  <dc:description/>
  <dc:language>en-US</dc:language>
  <cp:lastModifiedBy>Claus Nagel</cp:lastModifiedBy>
  <dcterms:modified xsi:type="dcterms:W3CDTF">2007-05-31T07:18:46Z</dcterms:modified>
  <cp:revision>153</cp:revision>
  <dc:subject/>
  <dc:title>PowerPoint-Präsentation</dc:title>
</cp:coreProperties>
</file>