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567-1584-464D-A36C-E78070EF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AA5-CCAB-4806-8981-5F0A298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844-5F34-4DB6-A20F-4DCC4E74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398-6702-4F03-BD73-6B8E3C0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8FA-1CDF-421B-8C7B-37C98A0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31E-241C-4511-992F-0FE90A95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FF4-2598-4119-B1D5-13372F2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EA9-DD3D-40A9-A0B3-951A614D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1BD-1BD4-49FC-BD01-9F2C136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526-8850-4EF6-869E-F6374C4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559-4A4B-4690-8637-215F162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1CC-CE76-4201-A70B-EB74F2D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68188841-202B-474F-8DC1-76E77A2E952B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1040" y="2765520"/>
            <a:ext cx="14396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Transportation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20440" y="3782880"/>
            <a:ext cx="125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Geometric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6920" y="4635360"/>
            <a:ext cx="228276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9040" y="5983200"/>
            <a:ext cx="900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MultiSu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5800" y="1660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5800" y="2058840"/>
            <a:ext cx="71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24400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5800" y="2803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29840" y="238140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33080" y="171936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2" idx="2"/>
            <a:endCxn id="41" idx="0"/>
          </p:cNvCxnSpPr>
          <p:nvPr/>
        </p:nvCxnSpPr>
        <p:spPr>
          <a:xfrm flipH="1">
            <a:off x="8320680" y="1990800"/>
            <a:ext cx="612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0"/>
            <a:endCxn id="41" idx="2"/>
          </p:cNvCxnSpPr>
          <p:nvPr/>
        </p:nvCxnSpPr>
        <p:spPr>
          <a:xfrm flipV="1">
            <a:off x="8319240" y="3052800"/>
            <a:ext cx="18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6" idx="0"/>
          </p:cNvCxnSpPr>
          <p:nvPr/>
        </p:nvCxnSpPr>
        <p:spPr>
          <a:xfrm>
            <a:off x="7254720" y="1804320"/>
            <a:ext cx="153000" cy="1875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6" idx="3"/>
            <a:endCxn id="56" idx="0"/>
          </p:cNvCxnSpPr>
          <p:nvPr/>
        </p:nvCxnSpPr>
        <p:spPr>
          <a:xfrm>
            <a:off x="7254720" y="2202480"/>
            <a:ext cx="153000" cy="147780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7" idx="3"/>
            <a:endCxn id="56" idx="0"/>
          </p:cNvCxnSpPr>
          <p:nvPr/>
        </p:nvCxnSpPr>
        <p:spPr>
          <a:xfrm>
            <a:off x="7254720" y="2583720"/>
            <a:ext cx="153000" cy="10965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0"/>
          </p:cNvCxnSpPr>
          <p:nvPr/>
        </p:nvCxnSpPr>
        <p:spPr>
          <a:xfrm>
            <a:off x="7254720" y="2947320"/>
            <a:ext cx="153000" cy="732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59600" y="3757680"/>
            <a:ext cx="25192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  <a:endCxn id="42" idx="1"/>
          </p:cNvCxnSpPr>
          <p:nvPr/>
        </p:nvCxnSpPr>
        <p:spPr>
          <a:xfrm flipV="1">
            <a:off x="9578880" y="3926520"/>
            <a:ext cx="114192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63" idx="0"/>
            <a:endCxn id="60" idx="2"/>
          </p:cNvCxnSpPr>
          <p:nvPr/>
        </p:nvCxnSpPr>
        <p:spPr>
          <a:xfrm flipH="1" flipV="1" rot="5400000">
            <a:off x="7339680" y="3657960"/>
            <a:ext cx="537120" cy="142200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3" idx="0"/>
            <a:endCxn id="60" idx="2"/>
          </p:cNvCxnSpPr>
          <p:nvPr/>
        </p:nvCxnSpPr>
        <p:spPr>
          <a:xfrm flipV="1" rot="16200000">
            <a:off x="9106200" y="3313440"/>
            <a:ext cx="53532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9845280" y="3750120"/>
            <a:ext cx="710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617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71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3880" y="20019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353360" y="33717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5680" y="4108320"/>
            <a:ext cx="90360" cy="14472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71160" y="44737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1160" y="45086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9520" y="4167360"/>
            <a:ext cx="22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4" idx="3"/>
            <a:endCxn id="75" idx="0"/>
          </p:cNvCxnSpPr>
          <p:nvPr/>
        </p:nvCxnSpPr>
        <p:spPr>
          <a:xfrm flipH="1" flipV="1">
            <a:off x="8931240" y="3755160"/>
            <a:ext cx="848160" cy="2372040"/>
          </a:xfrm>
          <a:prstGeom prst="bentConnector3">
            <a:avLst>
              <a:gd name="adj1" fmla="val -27303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8883720" y="3216240"/>
            <a:ext cx="107640" cy="107640"/>
            <a:chOff x="8883720" y="3216240"/>
            <a:chExt cx="107640" cy="107640"/>
          </a:xfrm>
        </p:grpSpPr>
        <p:sp>
          <p:nvSpPr>
            <p:cNvPr id="77" name=""/>
            <p:cNvSpPr/>
            <p:nvPr/>
          </p:nvSpPr>
          <p:spPr>
            <a:xfrm flipV="1" rot="16200000">
              <a:off x="888336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888408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93124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3" idx="3"/>
            <a:endCxn id="77" idx="0"/>
          </p:cNvCxnSpPr>
          <p:nvPr/>
        </p:nvCxnSpPr>
        <p:spPr>
          <a:xfrm flipH="1" flipV="1">
            <a:off x="8990640" y="3323880"/>
            <a:ext cx="2579400" cy="1455480"/>
          </a:xfrm>
          <a:prstGeom prst="bentConnector3">
            <a:avLst>
              <a:gd name="adj1" fmla="val -8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8" idx="0"/>
            <a:endCxn id="41" idx="2"/>
          </p:cNvCxnSpPr>
          <p:nvPr/>
        </p:nvCxnSpPr>
        <p:spPr>
          <a:xfrm rot="10800000">
            <a:off x="8320320" y="3052440"/>
            <a:ext cx="563760" cy="27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44" idx="0"/>
            <a:endCxn id="83" idx="0"/>
          </p:cNvCxnSpPr>
          <p:nvPr/>
        </p:nvCxnSpPr>
        <p:spPr>
          <a:xfrm flipH="1" flipV="1" rot="5400000">
            <a:off x="9806400" y="4649040"/>
            <a:ext cx="856800" cy="1812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" name=""/>
          <p:cNvSpPr/>
          <p:nvPr/>
        </p:nvSpPr>
        <p:spPr>
          <a:xfrm>
            <a:off x="11140920" y="5051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42000" y="594252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1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79960" y="535680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44" idx="1"/>
            <a:endCxn id="88" idx="0"/>
          </p:cNvCxnSpPr>
          <p:nvPr/>
        </p:nvCxnSpPr>
        <p:spPr>
          <a:xfrm rot="10800000">
            <a:off x="7025760" y="5325480"/>
            <a:ext cx="1853280" cy="8017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9" name=""/>
          <p:cNvSpPr/>
          <p:nvPr/>
        </p:nvSpPr>
        <p:spPr>
          <a:xfrm>
            <a:off x="7245000" y="593316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80880" y="5280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330120" y="5843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6080" y="54230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22000" y="6194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04960" y="620064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70840" y="3373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71524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002996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0736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59600" y="3478320"/>
            <a:ext cx="25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39120" y="171612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34880" y="204624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6920" y="4921200"/>
            <a:ext cx="228276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600" y="4637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6760" y="4209120"/>
            <a:ext cx="6109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47680" y="4209120"/>
            <a:ext cx="1019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4638600"/>
            <a:ext cx="215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9388440" y="543240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026120" y="517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7520" y="4919760"/>
            <a:ext cx="21592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39120" y="2376360"/>
            <a:ext cx="184644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39120" y="204624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1"/>
            <a:endCxn id="112" idx="0"/>
          </p:cNvCxnSpPr>
          <p:nvPr/>
        </p:nvCxnSpPr>
        <p:spPr>
          <a:xfrm flipH="1" rot="10800000">
            <a:off x="6797160" y="3323520"/>
            <a:ext cx="556560" cy="1458720"/>
          </a:xfrm>
          <a:prstGeom prst="bentConnector3">
            <a:avLst>
              <a:gd name="adj1" fmla="val -416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3" name=""/>
          <p:cNvGrpSpPr/>
          <p:nvPr/>
        </p:nvGrpSpPr>
        <p:grpSpPr>
          <a:xfrm>
            <a:off x="7353360" y="3216240"/>
            <a:ext cx="107640" cy="107640"/>
            <a:chOff x="7353360" y="3216240"/>
            <a:chExt cx="107640" cy="107640"/>
          </a:xfrm>
        </p:grpSpPr>
        <p:sp>
          <p:nvSpPr>
            <p:cNvPr id="114" name=""/>
            <p:cNvSpPr/>
            <p:nvPr/>
          </p:nvSpPr>
          <p:spPr>
            <a:xfrm flipV="1" rot="16200000">
              <a:off x="735300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0800000">
              <a:off x="735372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114" idx="0"/>
            <a:endCxn id="116" idx="0"/>
          </p:cNvCxnSpPr>
          <p:nvPr/>
        </p:nvCxnSpPr>
        <p:spPr>
          <a:xfrm flipV="1">
            <a:off x="7460280" y="3057480"/>
            <a:ext cx="861840" cy="266760"/>
          </a:xfrm>
          <a:prstGeom prst="bentConnector4">
            <a:avLst>
              <a:gd name="adj1" fmla="val 46761"/>
              <a:gd name="adj2" fmla="val 1875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267760" y="305748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6360" y="968400"/>
            <a:ext cx="250524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  <a:endCxn id="46" idx="1"/>
          </p:cNvCxnSpPr>
          <p:nvPr/>
        </p:nvCxnSpPr>
        <p:spPr>
          <a:xfrm flipH="1" rot="16200000">
            <a:off x="5050080" y="716760"/>
            <a:ext cx="1234440" cy="1737360"/>
          </a:xfrm>
          <a:prstGeom prst="bentConnector4">
            <a:avLst>
              <a:gd name="adj1" fmla="val -18757"/>
              <a:gd name="adj2" fmla="val 860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548160" y="1263600"/>
            <a:ext cx="2504880" cy="284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tv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Material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Correction[1..0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Carriageway[0..1]: gml:Length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D 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unnel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GradientPerc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ineage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976320"/>
            <a:ext cx="26272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47" idx="1"/>
          </p:cNvCxnSpPr>
          <p:nvPr/>
        </p:nvCxnSpPr>
        <p:spPr>
          <a:xfrm flipH="1" rot="16200000">
            <a:off x="3438720" y="-513720"/>
            <a:ext cx="1607760" cy="4587480"/>
          </a:xfrm>
          <a:prstGeom prst="bentConnector4">
            <a:avLst>
              <a:gd name="adj1" fmla="val -14400"/>
              <a:gd name="adj2" fmla="val 643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95160" y="4467240"/>
            <a:ext cx="2502000" cy="153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[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Correction[0..1]: gml:Measure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Day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Evening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Night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Trai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179960"/>
            <a:ext cx="25020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400" y="4084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21589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4840" y="2130480"/>
            <a:ext cx="9036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411240" y="2511360"/>
            <a:ext cx="9072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8840" y="5033880"/>
            <a:ext cx="795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0"/>
            <a:endCxn id="119" idx="2"/>
          </p:cNvCxnSpPr>
          <p:nvPr/>
        </p:nvCxnSpPr>
        <p:spPr>
          <a:xfrm flipV="1">
            <a:off x="4796640" y="4110120"/>
            <a:ext cx="4320" cy="9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54800" y="490392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1560" y="41781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3" idx="0"/>
            <a:endCxn id="133" idx="2"/>
          </p:cNvCxnSpPr>
          <p:nvPr/>
        </p:nvCxnSpPr>
        <p:spPr>
          <a:xfrm flipH="1" flipV="1" rot="5400000">
            <a:off x="925560" y="3158640"/>
            <a:ext cx="2041920" cy="1080"/>
          </a:xfrm>
          <a:prstGeom prst="bentConnector3">
            <a:avLst>
              <a:gd name="adj1" fmla="val 500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6200000">
            <a:off x="4534200" y="448776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856040" y="49323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638360" y="3092040"/>
            <a:ext cx="41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sed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820880" y="3357360"/>
            <a:ext cx="54000" cy="5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0" idx="0"/>
            <a:endCxn id="52" idx="0"/>
          </p:cNvCxnSpPr>
          <p:nvPr/>
        </p:nvCxnSpPr>
        <p:spPr>
          <a:xfrm flipH="1" rot="16200000">
            <a:off x="4773960" y="-1848960"/>
            <a:ext cx="727560" cy="6378120"/>
          </a:xfrm>
          <a:prstGeom prst="bentConnector3">
            <a:avLst>
              <a:gd name="adj1" fmla="val -31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7" idx="0"/>
            <a:endCxn id="140" idx="0"/>
          </p:cNvCxnSpPr>
          <p:nvPr/>
        </p:nvCxnSpPr>
        <p:spPr>
          <a:xfrm flipH="1" rot="16200000">
            <a:off x="6199560" y="-432720"/>
            <a:ext cx="727560" cy="3529440"/>
          </a:xfrm>
          <a:prstGeom prst="bentConnector5">
            <a:avLst>
              <a:gd name="adj1" fmla="val -31831"/>
              <a:gd name="adj2" fmla="val 66948"/>
              <a:gd name="adj3" fmla="val 13207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4738680" y="762120"/>
            <a:ext cx="107640" cy="107640"/>
            <a:chOff x="4738680" y="762120"/>
            <a:chExt cx="107640" cy="107640"/>
          </a:xfrm>
        </p:grpSpPr>
        <p:sp>
          <p:nvSpPr>
            <p:cNvPr id="142" name=""/>
            <p:cNvSpPr/>
            <p:nvPr/>
          </p:nvSpPr>
          <p:spPr>
            <a:xfrm flipV="1" rot="16200000">
              <a:off x="4738320" y="76248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4739040" y="76176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0800000">
            <a:off x="8273880" y="158760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4960" y="498960"/>
            <a:ext cx="10393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880" y="659160"/>
            <a:ext cx="11534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94280" y="5698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17880" y="7365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3040" y="2963880"/>
            <a:ext cx="7952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0440" y="283356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6560" y="216540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60400" y="241128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73240" y="284652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V="1">
            <a:off x="1122120" y="215388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3240" y="1258920"/>
            <a:ext cx="262764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Material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Correctio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rossing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urveRadius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Segm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6800" y="1703520"/>
            <a:ext cx="16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City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50:17Z</dcterms:created>
  <dc:creator>angela</dc:creator>
  <dc:description/>
  <dc:language>en-US</dc:language>
  <cp:lastModifiedBy>angela</cp:lastModifiedBy>
  <dcterms:modified xsi:type="dcterms:W3CDTF">2007-02-09T09:18:47Z</dcterms:modified>
  <cp:revision>5</cp:revision>
  <dc:subject/>
  <dc:title>Folie 1</dc:title>
</cp:coreProperties>
</file>