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7380288" cy="3240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DD970-CBB8-47B5-93B6-484029740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52240" y="287280"/>
            <a:ext cx="6275160" cy="54144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ctr">
            <a:noAutofit/>
          </a:bodyPr>
          <a:p>
            <a:pPr indent="0" algn="ctr">
              <a:buNone/>
              <a:tabLst>
                <a:tab algn="l" pos="0"/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52240" y="936360"/>
            <a:ext cx="6275160" cy="92664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52240" y="1951560"/>
            <a:ext cx="6275160" cy="92664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439A6-8E45-42A3-86D1-D1696F95C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52240" y="287280"/>
            <a:ext cx="6275160" cy="54144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ctr">
            <a:noAutofit/>
          </a:bodyPr>
          <a:p>
            <a:pPr indent="0" algn="ctr">
              <a:buNone/>
              <a:tabLst>
                <a:tab algn="l" pos="0"/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52240" y="936360"/>
            <a:ext cx="3062160" cy="92664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767760" y="936360"/>
            <a:ext cx="3062160" cy="92664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52240" y="1951560"/>
            <a:ext cx="3062160" cy="92664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767760" y="1951560"/>
            <a:ext cx="3062160" cy="92664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343D2-88F3-4298-A64E-FE1AAD64B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52240" y="287280"/>
            <a:ext cx="6275160" cy="54144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ctr">
            <a:noAutofit/>
          </a:bodyPr>
          <a:p>
            <a:pPr indent="0" algn="ctr">
              <a:buNone/>
              <a:tabLst>
                <a:tab algn="l" pos="0"/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52240" y="936360"/>
            <a:ext cx="2020320" cy="92664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74080" y="936360"/>
            <a:ext cx="2020320" cy="92664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795560" y="936360"/>
            <a:ext cx="2020320" cy="92664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52240" y="1951560"/>
            <a:ext cx="2020320" cy="92664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74080" y="1951560"/>
            <a:ext cx="2020320" cy="92664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795560" y="1951560"/>
            <a:ext cx="2020320" cy="92664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90297-2B5F-4FD3-BBDC-833FC47BD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52240" y="287280"/>
            <a:ext cx="6275160" cy="54144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ctr">
            <a:noAutofit/>
          </a:bodyPr>
          <a:p>
            <a:pPr indent="0" algn="ctr">
              <a:buNone/>
              <a:tabLst>
                <a:tab algn="l" pos="0"/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52240" y="936360"/>
            <a:ext cx="6275160" cy="19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9310B-E010-495A-B41F-2AD38901D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52240" y="287280"/>
            <a:ext cx="6275160" cy="54144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ctr">
            <a:noAutofit/>
          </a:bodyPr>
          <a:p>
            <a:pPr indent="0" algn="ctr">
              <a:buNone/>
              <a:tabLst>
                <a:tab algn="l" pos="0"/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52240" y="936360"/>
            <a:ext cx="6275160" cy="194292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4FD08-7F63-4E97-B323-71B4BF97C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52240" y="287280"/>
            <a:ext cx="6275160" cy="54144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ctr">
            <a:noAutofit/>
          </a:bodyPr>
          <a:p>
            <a:pPr indent="0" algn="ctr">
              <a:buNone/>
              <a:tabLst>
                <a:tab algn="l" pos="0"/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52240" y="936360"/>
            <a:ext cx="3062160" cy="194292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767760" y="936360"/>
            <a:ext cx="3062160" cy="194292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DED08-5743-48F4-803D-1534B2122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52240" y="287280"/>
            <a:ext cx="6275160" cy="54144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ctr">
            <a:noAutofit/>
          </a:bodyPr>
          <a:p>
            <a:pPr indent="0" algn="ctr">
              <a:buNone/>
              <a:tabLst>
                <a:tab algn="l" pos="0"/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D2483-0DF7-4439-9D37-506525414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52240" y="287280"/>
            <a:ext cx="6275160" cy="251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4561F-B9FC-4D51-B74C-4A79F0672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52240" y="287280"/>
            <a:ext cx="6275160" cy="54144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ctr">
            <a:noAutofit/>
          </a:bodyPr>
          <a:p>
            <a:pPr indent="0" algn="ctr">
              <a:buNone/>
              <a:tabLst>
                <a:tab algn="l" pos="0"/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52240" y="936360"/>
            <a:ext cx="3062160" cy="92664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767760" y="936360"/>
            <a:ext cx="3062160" cy="194292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52240" y="1951560"/>
            <a:ext cx="3062160" cy="92664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32668-6D6B-4DB3-A896-DB14F52E3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52240" y="287280"/>
            <a:ext cx="6275160" cy="54144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ctr">
            <a:noAutofit/>
          </a:bodyPr>
          <a:p>
            <a:pPr indent="0" algn="ctr">
              <a:buNone/>
              <a:tabLst>
                <a:tab algn="l" pos="0"/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52240" y="936360"/>
            <a:ext cx="3062160" cy="194292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767760" y="936360"/>
            <a:ext cx="3062160" cy="92664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767760" y="1951560"/>
            <a:ext cx="3062160" cy="92664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FC5A4-1CCB-402F-A625-9720228D1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52240" y="287280"/>
            <a:ext cx="6275160" cy="54144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ctr">
            <a:noAutofit/>
          </a:bodyPr>
          <a:p>
            <a:pPr indent="0" algn="ctr">
              <a:buNone/>
              <a:tabLst>
                <a:tab algn="l" pos="0"/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52240" y="936360"/>
            <a:ext cx="3062160" cy="92664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767760" y="936360"/>
            <a:ext cx="3062160" cy="92664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52240" y="1951560"/>
            <a:ext cx="6275160" cy="92664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23B84-1A4F-481F-8579-F8735D075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52240" y="287280"/>
            <a:ext cx="6275160" cy="54144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ctr">
            <a:noAutofit/>
          </a:bodyPr>
          <a:p>
            <a:pPr indent="0" algn="ctr">
              <a:buNone/>
              <a:tabLst>
                <a:tab algn="l" pos="0"/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52240" y="936360"/>
            <a:ext cx="6275160" cy="194292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rmAutofit fontScale="88000"/>
          </a:bodyPr>
          <a:p>
            <a:pPr marL="157680" indent="-157680">
              <a:spcBef>
                <a:spcPts val="425"/>
              </a:spcBef>
              <a:buClr>
                <a:srgbClr val="000000"/>
              </a:buClr>
              <a:buFont typeface="Times New Roman"/>
              <a:buChar char="•"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342000" indent="-131040">
              <a:spcBef>
                <a:spcPts val="425"/>
              </a:spcBef>
              <a:buClr>
                <a:srgbClr val="000000"/>
              </a:buClr>
              <a:buFont typeface="Times New Roman"/>
              <a:buChar char="–"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2" marL="526320" indent="-104400">
              <a:spcBef>
                <a:spcPts val="425"/>
              </a:spcBef>
              <a:buClr>
                <a:srgbClr val="000000"/>
              </a:buClr>
              <a:buFont typeface="Times New Roman"/>
              <a:buChar char="•"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3" marL="737280" indent="-104400">
              <a:spcBef>
                <a:spcPts val="425"/>
              </a:spcBef>
              <a:buClr>
                <a:srgbClr val="000000"/>
              </a:buClr>
              <a:buFont typeface="Times New Roman"/>
              <a:buChar char="–"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4" marL="948240" indent="-10584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5" marL="948240" indent="-10584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6" marL="948240" indent="-10584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52240" y="2952720"/>
            <a:ext cx="1539720" cy="21600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Autofit/>
          </a:bodyPr>
          <a:lstStyle>
            <a:lvl1pPr indent="0">
              <a:buNone/>
              <a:tabLst>
                <a:tab algn="l" pos="0"/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  <a:defRPr b="0" lang="en-US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22160" y="2952720"/>
            <a:ext cx="2335320" cy="21600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Autofit/>
          </a:bodyPr>
          <a:lstStyle>
            <a:lvl1pPr indent="0" algn="ctr">
              <a:buNone/>
              <a:tabLst>
                <a:tab algn="l" pos="0"/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  <a:defRPr b="0" lang="en-US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287680" y="2952720"/>
            <a:ext cx="1539720" cy="21600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Autofit/>
          </a:bodyPr>
          <a:lstStyle>
            <a:lvl1pPr indent="0" algn="r">
              <a:buNone/>
              <a:tabLst>
                <a:tab algn="l" pos="0"/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  <a:defRPr b="0" lang="en-US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fld id="{46C8124B-1B0D-497E-88A6-F68E181CE77C}" type="slidenum"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-152280" y="103320"/>
            <a:ext cx="7461000" cy="3000240"/>
            <a:chOff x="-152280" y="103320"/>
            <a:chExt cx="7461000" cy="3000240"/>
          </a:xfrm>
        </p:grpSpPr>
        <p:sp>
          <p:nvSpPr>
            <p:cNvPr id="42" name=""/>
            <p:cNvSpPr/>
            <p:nvPr/>
          </p:nvSpPr>
          <p:spPr>
            <a:xfrm flipH="1">
              <a:off x="2582640" y="1413000"/>
              <a:ext cx="984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878280" y="103320"/>
              <a:ext cx="1618920" cy="2872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1640" rIns="71640" tIns="35640" bIns="35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&lt;&lt;Feature&gt;&gt;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1" i="1" lang="de-DE" sz="800" spc="-1" strike="noStrike">
                  <a:solidFill>
                    <a:srgbClr val="000000"/>
                  </a:solidFill>
                  <a:latin typeface="Arial"/>
                </a:rPr>
                <a:t>_CityObjec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698640" y="1236600"/>
              <a:ext cx="1979640" cy="2872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1640" rIns="71640" tIns="35640" bIns="35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&lt;&lt;Feature&gt;&gt;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1" lang="de-DE" sz="800" spc="-1" strike="noStrike">
                  <a:solidFill>
                    <a:srgbClr val="000000"/>
                  </a:solidFill>
                  <a:latin typeface="Arial"/>
                </a:rPr>
                <a:t>CityFurnitur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229080" y="601560"/>
              <a:ext cx="1079640" cy="28764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1640" rIns="71640" tIns="35640" bIns="35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&lt;&lt;ExternalCodeList&gt;&gt;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1" lang="de-DE" sz="800" spc="-1" strike="noStrike">
                  <a:solidFill>
                    <a:srgbClr val="000000"/>
                  </a:solidFill>
                  <a:latin typeface="Arial"/>
                </a:rPr>
                <a:t>MimeTypeTyp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6" name=""/>
            <p:cNvCxnSpPr>
              <a:stCxn id="44" idx="0"/>
              <a:endCxn id="43" idx="2"/>
            </p:cNvCxnSpPr>
            <p:nvPr/>
          </p:nvCxnSpPr>
          <p:spPr>
            <a:xfrm flipH="1" flipV="1">
              <a:off x="4687560" y="390600"/>
              <a:ext cx="1080" cy="846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47" name=""/>
            <p:cNvSpPr/>
            <p:nvPr/>
          </p:nvSpPr>
          <p:spPr>
            <a:xfrm>
              <a:off x="4638600" y="392040"/>
              <a:ext cx="108000" cy="10800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42" y="63"/>
                  </a:lnTo>
                  <a:lnTo>
                    <a:pt x="0" y="63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511360" y="477720"/>
              <a:ext cx="1390680" cy="2826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1640" rIns="71640" tIns="35640" bIns="35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&lt;&lt;ExternalCodeList&gt;&gt;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1" lang="de-DE" sz="800" spc="-1" strike="noStrike">
                  <a:solidFill>
                    <a:srgbClr val="000000"/>
                  </a:solidFill>
                  <a:latin typeface="Arial"/>
                </a:rPr>
                <a:t>CityFurnitureFunctionTyp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511360" y="855720"/>
              <a:ext cx="1392120" cy="28404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1640" rIns="71640" tIns="35640" bIns="35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&lt;&lt;ExternalCodeList&gt;&gt;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1" lang="de-DE" sz="800" spc="-1" strike="noStrike">
                  <a:solidFill>
                    <a:srgbClr val="000000"/>
                  </a:solidFill>
                  <a:latin typeface="Arial"/>
                </a:rPr>
                <a:t>CityFurnitureClassTyp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" name=""/>
            <p:cNvGrpSpPr/>
            <p:nvPr/>
          </p:nvGrpSpPr>
          <p:grpSpPr>
            <a:xfrm>
              <a:off x="5762520" y="104760"/>
              <a:ext cx="1545840" cy="445680"/>
              <a:chOff x="5762520" y="104760"/>
              <a:chExt cx="1545840" cy="445680"/>
            </a:xfrm>
          </p:grpSpPr>
          <p:sp>
            <p:nvSpPr>
              <p:cNvPr id="51" name=""/>
              <p:cNvSpPr/>
              <p:nvPr/>
            </p:nvSpPr>
            <p:spPr>
              <a:xfrm>
                <a:off x="5762520" y="104760"/>
                <a:ext cx="1545840" cy="2689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1640" rIns="71640" tIns="35640" bIns="356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16040"/>
                    <a:tab algn="l" pos="1432080"/>
                    <a:tab algn="l" pos="2147760"/>
                    <a:tab algn="l" pos="2863800"/>
                    <a:tab algn="l" pos="3579840"/>
                    <a:tab algn="l" pos="4295880"/>
                    <a:tab algn="l" pos="5011560"/>
                    <a:tab algn="l" pos="5727600"/>
                    <a:tab algn="l" pos="6443640"/>
                    <a:tab algn="l" pos="7159680"/>
                    <a:tab algn="l" pos="7875720"/>
                    <a:tab algn="l" pos="8591400"/>
                    <a:tab algn="l" pos="9307440"/>
                    <a:tab algn="l" pos="10023480"/>
                    <a:tab algn="l" pos="1073952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Arial"/>
                  </a:rPr>
                  <a:t>&lt;&lt;PrimitiveType&gt;&gt;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716040"/>
                    <a:tab algn="l" pos="1432080"/>
                    <a:tab algn="l" pos="2147760"/>
                    <a:tab algn="l" pos="2863800"/>
                    <a:tab algn="l" pos="3579840"/>
                    <a:tab algn="l" pos="4295880"/>
                    <a:tab algn="l" pos="5011560"/>
                    <a:tab algn="l" pos="5727600"/>
                    <a:tab algn="l" pos="6443640"/>
                    <a:tab algn="l" pos="7159680"/>
                    <a:tab algn="l" pos="7875720"/>
                    <a:tab algn="l" pos="8591400"/>
                    <a:tab algn="l" pos="9307440"/>
                    <a:tab algn="l" pos="10023480"/>
                    <a:tab algn="l" pos="10739520"/>
                  </a:tabLst>
                </a:pPr>
                <a:r>
                  <a:rPr b="1" lang="de-DE" sz="800" spc="-1" strike="noStrike">
                    <a:solidFill>
                      <a:srgbClr val="000000"/>
                    </a:solidFill>
                    <a:latin typeface="Arial"/>
                  </a:rPr>
                  <a:t>TransformationMatrix4x4Typ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5762520" y="370440"/>
                <a:ext cx="1545840" cy="18000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1640" rIns="71640" tIns="35640" bIns="356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6040"/>
                    <a:tab algn="l" pos="1432080"/>
                    <a:tab algn="l" pos="2147760"/>
                    <a:tab algn="l" pos="2863800"/>
                    <a:tab algn="l" pos="3579840"/>
                    <a:tab algn="l" pos="4295880"/>
                    <a:tab algn="l" pos="5011560"/>
                    <a:tab algn="l" pos="5727600"/>
                    <a:tab algn="l" pos="6443640"/>
                    <a:tab algn="l" pos="7159680"/>
                    <a:tab algn="l" pos="7875720"/>
                    <a:tab algn="l" pos="8591400"/>
                    <a:tab algn="l" pos="9307440"/>
                    <a:tab algn="l" pos="10023480"/>
                    <a:tab algn="l" pos="1073952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+xs:double[16]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" name=""/>
            <p:cNvSpPr/>
            <p:nvPr/>
          </p:nvSpPr>
          <p:spPr>
            <a:xfrm flipH="1">
              <a:off x="4440240" y="1801800"/>
              <a:ext cx="71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4797000" y="180180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736360" y="1935360"/>
              <a:ext cx="1715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lodXImplicitRepresentation, X</a:t>
              </a:r>
              <a:r>
                <a:rPr b="0" lang="de-DE" sz="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[1..4]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263920" y="1930320"/>
              <a:ext cx="11530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lodXGeometry, X</a:t>
              </a:r>
              <a:r>
                <a:rPr b="0" lang="de-DE" sz="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[1..4]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674800" y="233532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8" name=""/>
            <p:cNvCxnSpPr>
              <a:stCxn id="57" idx="0"/>
              <a:endCxn id="53" idx="0"/>
            </p:cNvCxnSpPr>
            <p:nvPr/>
          </p:nvCxnSpPr>
          <p:spPr>
            <a:xfrm flipV="1">
              <a:off x="2674800" y="1801800"/>
              <a:ext cx="1765800" cy="533880"/>
            </a:xfrm>
            <a:prstGeom prst="bentConnector3">
              <a:avLst>
                <a:gd name="adj1" fmla="val 50142"/>
              </a:avLst>
            </a:prstGeom>
            <a:ln w="9360">
              <a:solidFill>
                <a:srgbClr val="000000"/>
              </a:solidFill>
              <a:prstDash val="dash"/>
              <a:miter/>
            </a:ln>
          </p:spPr>
        </p:cxnSp>
        <p:sp>
          <p:nvSpPr>
            <p:cNvPr id="59" name=""/>
            <p:cNvSpPr/>
            <p:nvPr/>
          </p:nvSpPr>
          <p:spPr>
            <a:xfrm>
              <a:off x="6229080" y="2311560"/>
              <a:ext cx="1079640" cy="2872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1640" rIns="71640" tIns="35640" bIns="35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&lt;&lt;Geometry&gt;&gt;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1" i="1" lang="de-DE" sz="800" spc="-1" strike="noStrike">
                  <a:solidFill>
                    <a:srgbClr val="000000"/>
                  </a:solidFill>
                  <a:latin typeface="Arial"/>
                </a:rPr>
                <a:t>gml::_Geometr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" name=""/>
            <p:cNvCxnSpPr>
              <a:stCxn id="59" idx="0"/>
              <a:endCxn id="54" idx="0"/>
            </p:cNvCxnSpPr>
            <p:nvPr/>
          </p:nvCxnSpPr>
          <p:spPr>
            <a:xfrm flipV="1" rot="16200000">
              <a:off x="5527800" y="1070640"/>
              <a:ext cx="510120" cy="197208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prstDash val="dash"/>
              <a:miter/>
            </a:ln>
          </p:spPr>
        </p:cxnSp>
        <p:sp>
          <p:nvSpPr>
            <p:cNvPr id="61" name=""/>
            <p:cNvSpPr/>
            <p:nvPr/>
          </p:nvSpPr>
          <p:spPr>
            <a:xfrm>
              <a:off x="2522520" y="2313000"/>
              <a:ext cx="2455920" cy="2872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1640" rIns="71640" tIns="35640" bIns="35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&lt;&lt;Object&gt;&gt;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1" lang="de-DE" sz="800" spc="-1" strike="noStrike">
                  <a:solidFill>
                    <a:srgbClr val="000000"/>
                  </a:solidFill>
                  <a:latin typeface="Arial"/>
                </a:rPr>
                <a:t>ImplicitGeometr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522680" y="1908360"/>
              <a:ext cx="1123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757760" y="1908360"/>
              <a:ext cx="1123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693880" y="2182680"/>
              <a:ext cx="1123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518520" y="2184480"/>
              <a:ext cx="2433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..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98640" y="1521000"/>
              <a:ext cx="1979640" cy="2872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1640" rIns="71640" tIns="35640" bIns="356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+class[0..1]: CityFurnitureClassTyp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+function[0..*]: CityFurnitureFunctionTyp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522520" y="2597040"/>
              <a:ext cx="2455920" cy="5065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1640" rIns="71640" tIns="35640" bIns="356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+mimeType[0..1]: MimeTypeTyp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+libraryObject[0..1]: xs:anyURI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+transformation[0..1]: TransformationMatrix4x4Typ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8" name=""/>
            <p:cNvCxnSpPr>
              <a:stCxn id="61" idx="3"/>
              <a:endCxn id="59" idx="1"/>
            </p:cNvCxnSpPr>
            <p:nvPr/>
          </p:nvCxnSpPr>
          <p:spPr>
            <a:xfrm flipV="1">
              <a:off x="4978440" y="2455200"/>
              <a:ext cx="1251000" cy="1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69" name=""/>
            <p:cNvSpPr/>
            <p:nvPr/>
          </p:nvSpPr>
          <p:spPr>
            <a:xfrm>
              <a:off x="5324040" y="2313000"/>
              <a:ext cx="8499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relativeGeometr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85000" y="2492280"/>
              <a:ext cx="2433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..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043240" y="2502000"/>
              <a:ext cx="1123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229080" y="2710080"/>
              <a:ext cx="1079640" cy="2872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1640" rIns="71640" tIns="35640" bIns="35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&lt;&lt;Geometry&gt;&gt;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1" lang="de-DE" sz="800" spc="-1" strike="noStrike">
                  <a:solidFill>
                    <a:srgbClr val="000000"/>
                  </a:solidFill>
                  <a:latin typeface="Arial"/>
                </a:rPr>
                <a:t>gml::Po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7" idx="3"/>
              <a:endCxn id="72" idx="1"/>
            </p:cNvCxnSpPr>
            <p:nvPr/>
          </p:nvCxnSpPr>
          <p:spPr>
            <a:xfrm>
              <a:off x="4978440" y="2850120"/>
              <a:ext cx="1251000" cy="3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74" name=""/>
            <p:cNvSpPr/>
            <p:nvPr/>
          </p:nvSpPr>
          <p:spPr>
            <a:xfrm>
              <a:off x="5043240" y="2889360"/>
              <a:ext cx="1123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434920" y="2716200"/>
              <a:ext cx="735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referencePo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408720" y="1090800"/>
              <a:ext cx="900000" cy="2872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1640" rIns="71640" tIns="35640" bIns="35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&lt;&lt;Geometry&gt;&gt;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gml::</a:t>
              </a:r>
              <a:r>
                <a:rPr b="1" lang="de-DE" sz="800" spc="-1" strike="noStrike">
                  <a:solidFill>
                    <a:srgbClr val="000000"/>
                  </a:solidFill>
                  <a:latin typeface="Arial"/>
                </a:rPr>
                <a:t> MultiCurv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7" name=""/>
            <p:cNvCxnSpPr>
              <a:stCxn id="76" idx="2"/>
              <a:endCxn id="66" idx="3"/>
            </p:cNvCxnSpPr>
            <p:nvPr/>
          </p:nvCxnSpPr>
          <p:spPr>
            <a:xfrm rot="5400000">
              <a:off x="6125040" y="931320"/>
              <a:ext cx="286920" cy="1180800"/>
            </a:xfrm>
            <a:prstGeom prst="bentConnector2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</p:cxnSp>
        <p:sp>
          <p:nvSpPr>
            <p:cNvPr id="78" name=""/>
            <p:cNvSpPr/>
            <p:nvPr/>
          </p:nvSpPr>
          <p:spPr>
            <a:xfrm>
              <a:off x="5672160" y="1684440"/>
              <a:ext cx="1555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lodXTerrainIntersection, X</a:t>
              </a:r>
              <a:r>
                <a:rPr b="0" lang="de-DE" sz="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[1..4]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840720" y="1374840"/>
              <a:ext cx="2433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..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5689440" y="1538280"/>
              <a:ext cx="1123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927840" y="1600200"/>
              <a:ext cx="52200" cy="5868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15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360" bIns="-27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63440" y="1954080"/>
              <a:ext cx="0" cy="584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9200" y="1490760"/>
              <a:ext cx="2516400" cy="5936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1640" rIns="71640" tIns="35640" bIns="356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+type[0..1]: NoiseCityFurnitureSegmentTypeTyp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+reflection[0..1]: xs:str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+reflectionCorrection[0..1]: gml:MeasureTyp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+height[0..1]: gml:LengthTyp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+distance[0..1]: gml:LengthTyp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rot="5400000">
              <a:off x="3574800" y="1338120"/>
              <a:ext cx="90720" cy="144720"/>
            </a:xfrm>
            <a:custGeom>
              <a:avLst/>
              <a:gdLst/>
              <a:ahLst/>
              <a:rect l="l" t="t" r="r" b="b"/>
              <a:pathLst>
                <a:path w="28" h="55">
                  <a:moveTo>
                    <a:pt x="14" y="55"/>
                  </a:moveTo>
                  <a:lnTo>
                    <a:pt x="0" y="28"/>
                  </a:lnTo>
                  <a:lnTo>
                    <a:pt x="14" y="0"/>
                  </a:lnTo>
                  <a:lnTo>
                    <a:pt x="28" y="28"/>
                  </a:lnTo>
                  <a:lnTo>
                    <a:pt x="14" y="55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5440" y="2540160"/>
              <a:ext cx="795240" cy="2872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1640" rIns="71640" tIns="35640" bIns="35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&lt;&lt;Geometry&gt;&gt;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1" lang="de-DE" sz="800" spc="-1" strike="noStrike">
                  <a:solidFill>
                    <a:srgbClr val="000000"/>
                  </a:solidFill>
                  <a:latin typeface="Arial"/>
                </a:rPr>
                <a:t>gml::Curv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70280" y="2365920"/>
              <a:ext cx="762120" cy="19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36000" bIns="36000" anchor="ctr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od0BaseLin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663640" y="1295280"/>
              <a:ext cx="9003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noiseCityFurnitur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rot="16200000">
              <a:off x="2620800" y="1332000"/>
              <a:ext cx="54000" cy="5400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15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468360"/>
              <a:ext cx="2128680" cy="2826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1640" rIns="71640" tIns="35640" bIns="35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&lt;&lt;ExternalCodeList&gt;&gt;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1" lang="de-DE" sz="800" spc="-1" strike="noStrike">
                  <a:solidFill>
                    <a:srgbClr val="000000"/>
                  </a:solidFill>
                  <a:latin typeface="Arial"/>
                </a:rPr>
                <a:t>NoiseCityFurnitureSegmentTypeTyp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90" name=""/>
            <p:cNvCxnSpPr>
              <a:stCxn id="91" idx="1"/>
            </p:cNvCxnSpPr>
            <p:nvPr/>
          </p:nvCxnSpPr>
          <p:spPr>
            <a:xfrm flipH="1" rot="10800000">
              <a:off x="78840" y="280080"/>
              <a:ext cx="3783600" cy="1082880"/>
            </a:xfrm>
            <a:prstGeom prst="bentConnector3">
              <a:avLst>
                <a:gd name="adj1" fmla="val -6118"/>
              </a:avLst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91" name=""/>
            <p:cNvSpPr/>
            <p:nvPr/>
          </p:nvSpPr>
          <p:spPr>
            <a:xfrm>
              <a:off x="79200" y="1219320"/>
              <a:ext cx="2516400" cy="2872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1640" rIns="71640" tIns="35640" bIns="35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&lt;&lt;ApplicationFeature&gt;&gt;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1" lang="de-DE" sz="800" spc="-1" strike="noStrike">
                  <a:solidFill>
                    <a:srgbClr val="000000"/>
                  </a:solidFill>
                  <a:latin typeface="Arial"/>
                </a:rPr>
                <a:t>NoiseCityFurnitureSegme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rot="5400000">
              <a:off x="3760560" y="230040"/>
              <a:ext cx="107640" cy="10800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42" y="63"/>
                  </a:lnTo>
                  <a:lnTo>
                    <a:pt x="0" y="63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6T15:08:26Z</dcterms:created>
  <dc:creator>Birgit Joemann</dc:creator>
  <dc:description/>
  <dc:language>en-US</dc:language>
  <cp:lastModifiedBy>Claus Nagel</cp:lastModifiedBy>
  <dcterms:modified xsi:type="dcterms:W3CDTF">2007-05-31T07:25:49Z</dcterms:modified>
  <cp:revision>47</cp:revision>
  <dc:subject/>
  <dc:title>PowerPoint-Präsentation</dc:title>
</cp:coreProperties>
</file>