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839450" cy="72358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CEB-234E-4C9E-A1E0-4B9CBDCE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EFE-E6A5-4E90-805E-767D704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063-8D8B-4A00-B576-F59324EC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65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3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07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65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3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A61-2144-4862-B644-37E8CB8A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801-A293-4533-BF5E-94180647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378-D4DE-45DC-97D8-039BAD6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BDB-BDE5-48FC-9799-1F3B49E7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05C-66FB-49CC-AC8D-7B0943D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0720" y="642600"/>
            <a:ext cx="92156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790-76B9-4A5A-9F3F-ECC116AE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0C3-3012-4D35-8C1A-19D7B6E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8BA-CDDC-4594-8F0E-CCBADC8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F93-13C4-4CF5-9121-29D8542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072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1520" y="6594480"/>
            <a:ext cx="3434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36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A38-6A18-4F2B-93B7-B9036B8B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0"/>
            <a:ext cx="10650600" cy="7209000"/>
            <a:chOff x="177840" y="0"/>
            <a:chExt cx="10650600" cy="7209000"/>
          </a:xfrm>
        </p:grpSpPr>
        <p:sp>
          <p:nvSpPr>
            <p:cNvPr id="42" name=""/>
            <p:cNvSpPr/>
            <p:nvPr/>
          </p:nvSpPr>
          <p:spPr>
            <a:xfrm>
              <a:off x="3032280" y="5702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149560" y="5702400"/>
              <a:ext cx="7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7760" y="0"/>
              <a:ext cx="23572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76400" y="0"/>
              <a:ext cx="23558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7" idx="0"/>
              <a:endCxn id="48" idx="1"/>
            </p:cNvCxnSpPr>
            <p:nvPr/>
          </p:nvCxnSpPr>
          <p:spPr>
            <a:xfrm flipV="1">
              <a:off x="7059600" y="828720"/>
              <a:ext cx="905400" cy="925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7166520" y="669960"/>
              <a:ext cx="43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7622640" y="712800"/>
              <a:ext cx="5724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3760" y="169848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/>
            <p:nvPr/>
          </p:nvCxnSpPr>
          <p:spPr>
            <a:xfrm>
              <a:off x="5374800" y="307800"/>
              <a:ext cx="108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3"/>
              <a:endCxn id="51" idx="0"/>
            </p:cNvCxnSpPr>
            <p:nvPr/>
          </p:nvCxnSpPr>
          <p:spPr>
            <a:xfrm>
              <a:off x="4332240" y="154800"/>
              <a:ext cx="371880" cy="154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4" idx="1"/>
              <a:endCxn id="51" idx="0"/>
            </p:cNvCxnSpPr>
            <p:nvPr/>
          </p:nvCxnSpPr>
          <p:spPr>
            <a:xfrm flipV="1" rot="10800000">
              <a:off x="4703760" y="153360"/>
              <a:ext cx="324360" cy="154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 rot="10800000">
              <a:off x="4649400" y="156528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2320" y="152244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5640" y="154620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44680" y="85104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2720" y="1754280"/>
              <a:ext cx="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1040" y="41112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_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2968200" y="1842840"/>
              <a:ext cx="130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3316680" y="1708200"/>
              <a:ext cx="65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0680" y="19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237480" y="174960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0320" y="18111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0" idx="2"/>
              <a:endCxn id="59" idx="0"/>
            </p:cNvCxnSpPr>
            <p:nvPr/>
          </p:nvCxnSpPr>
          <p:spPr>
            <a:xfrm flipH="1" rot="16200000">
              <a:off x="3312720" y="673920"/>
              <a:ext cx="1035360" cy="1125360"/>
            </a:xfrm>
            <a:prstGeom prst="bentConnector3">
              <a:avLst>
                <a:gd name="adj1" fmla="val 50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219480" y="72072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0" idx="1"/>
              <a:endCxn id="69" idx="3"/>
            </p:cNvCxnSpPr>
            <p:nvPr/>
          </p:nvCxnSpPr>
          <p:spPr>
            <a:xfrm flipH="1">
              <a:off x="1704960" y="565200"/>
              <a:ext cx="121644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 rot="16200000">
              <a:off x="1699920" y="512640"/>
              <a:ext cx="115920" cy="1033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/>
            <p:nvPr/>
          </p:nvCxnSpPr>
          <p:spPr>
            <a:xfrm flipH="1" rot="16200000">
              <a:off x="695880" y="96480"/>
              <a:ext cx="818280" cy="1624680"/>
            </a:xfrm>
            <a:prstGeom prst="bentConnector3">
              <a:avLst>
                <a:gd name="adj1" fmla="val 762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 flipH="1" rot="16200000">
              <a:off x="-458280" y="1866600"/>
              <a:ext cx="4266360" cy="27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1990800" y="32608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5" idx="0"/>
              <a:endCxn id="73" idx="0"/>
            </p:cNvCxnSpPr>
            <p:nvPr/>
          </p:nvCxnSpPr>
          <p:spPr>
            <a:xfrm>
              <a:off x="1989720" y="2104920"/>
              <a:ext cx="1440" cy="115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 rot="16200000">
              <a:off x="1503720" y="2301840"/>
              <a:ext cx="79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46160" y="1951200"/>
              <a:ext cx="87480" cy="153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9000" y="28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1488600" y="2864880"/>
              <a:ext cx="3107520" cy="1602360"/>
            </a:xfrm>
            <a:prstGeom prst="bentConnector3">
              <a:avLst>
                <a:gd name="adj1" fmla="val 802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" name=""/>
            <p:cNvSpPr/>
            <p:nvPr/>
          </p:nvSpPr>
          <p:spPr>
            <a:xfrm>
              <a:off x="2216160" y="195732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9960" y="34243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82" idx="0"/>
            </p:cNvCxnSpPr>
            <p:nvPr/>
          </p:nvCxnSpPr>
          <p:spPr>
            <a:xfrm flipH="1" flipV="1">
              <a:off x="1809360" y="3600000"/>
              <a:ext cx="44280" cy="172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 rot="5400000">
              <a:off x="1581840" y="3936240"/>
              <a:ext cx="72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8360" y="5524560"/>
              <a:ext cx="7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8160" y="5678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205000" y="5571720"/>
              <a:ext cx="5868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21360" y="26668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8080" y="250344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endCxn id="90" idx="0"/>
            </p:cNvCxnSpPr>
            <p:nvPr/>
          </p:nvCxnSpPr>
          <p:spPr>
            <a:xfrm flipH="1" rot="10800000">
              <a:off x="3970080" y="2470320"/>
              <a:ext cx="135720" cy="2748960"/>
            </a:xfrm>
            <a:prstGeom prst="bentConnector3">
              <a:avLst>
                <a:gd name="adj1" fmla="val -726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rot="5400000">
              <a:off x="4126680" y="2400840"/>
              <a:ext cx="96840" cy="13968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97320" y="3229560"/>
              <a:ext cx="132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025880" y="55004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9400" y="274968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9520" y="561492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120920" y="1777680"/>
              <a:ext cx="96840" cy="1382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1533600"/>
              <a:ext cx="1650960" cy="428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usage[0..*]: 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0200" y="1227240"/>
              <a:ext cx="164952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0080" y="1889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760" y="8287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" y="71604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2800" y="3645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54975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2520" y="58039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0000" y="34128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0400" y="22716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9880" y="19652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1882440" y="2785680"/>
              <a:ext cx="507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42320" y="528012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19224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948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" y="66531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680" y="3252960"/>
              <a:ext cx="12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ImplicitRe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40800" y="2581200"/>
              <a:ext cx="10699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96360" y="3578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5680" y="5307120"/>
              <a:ext cx="104760" cy="115200"/>
              <a:chOff x="355680" y="5307120"/>
              <a:chExt cx="104760" cy="1152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355680" y="53067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 rot="16200000">
                <a:off x="350280" y="531216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stCxn id="119" idx="0"/>
              <a:endCxn id="121" idx="1"/>
            </p:cNvCxnSpPr>
            <p:nvPr/>
          </p:nvCxnSpPr>
          <p:spPr>
            <a:xfrm flipH="1" flipV="1" rot="5400000">
              <a:off x="50400" y="3716640"/>
              <a:ext cx="1896120" cy="128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 rot="10800000">
              <a:off x="1914480" y="550656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0200" y="2584440"/>
              <a:ext cx="79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oom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263760" y="262548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600" y="17542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6560" y="1986120"/>
              <a:ext cx="3073320" cy="1379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class[0..1]: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function[0..*]: 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usage[0..*]: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yearOfConstruction[0..1]: xs:gYe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roofType[0..1]: 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measured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AboveG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BelowGr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Above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Below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6560" y="1682640"/>
              <a:ext cx="3073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Abstract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9240" y="4846680"/>
              <a:ext cx="17370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703760" y="947520"/>
              <a:ext cx="110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sistsOf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8720" y="3650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62160" y="5227560"/>
              <a:ext cx="2381040" cy="784080"/>
              <a:chOff x="3062160" y="5227560"/>
              <a:chExt cx="2381040" cy="784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062160" y="5531760"/>
                <a:ext cx="2381040" cy="479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Int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Int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Int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62160" y="5227560"/>
                <a:ext cx="2381040" cy="30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Int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35" idx="0"/>
              <a:endCxn id="136" idx="3"/>
            </p:cNvCxnSpPr>
            <p:nvPr/>
          </p:nvCxnSpPr>
          <p:spPr>
            <a:xfrm flipV="1">
              <a:off x="1630440" y="6004440"/>
              <a:ext cx="1440" cy="33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8" idx="1"/>
              <a:endCxn id="118" idx="0"/>
            </p:cNvCxnSpPr>
            <p:nvPr/>
          </p:nvCxnSpPr>
          <p:spPr>
            <a:xfrm rot="10800000">
              <a:off x="355320" y="5421960"/>
              <a:ext cx="321120" cy="147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76440" y="6591240"/>
              <a:ext cx="2257200" cy="61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ToLibrary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Point[1]: gml:PointProperty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endCxn id="94" idx="2"/>
            </p:cNvCxnSpPr>
            <p:nvPr/>
          </p:nvCxnSpPr>
          <p:spPr>
            <a:xfrm flipV="1">
              <a:off x="1630080" y="5923080"/>
              <a:ext cx="360" cy="9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803160" y="612936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8160" y="59436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9680" y="61484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0440" y="634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440" y="6286680"/>
              <a:ext cx="22572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64640" y="67464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87000" y="1446120"/>
              <a:ext cx="868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48" idx="2"/>
              <a:endCxn id="144" idx="0"/>
            </p:cNvCxnSpPr>
            <p:nvPr/>
          </p:nvCxnSpPr>
          <p:spPr>
            <a:xfrm flipH="1" rot="16200000">
              <a:off x="8834760" y="459360"/>
              <a:ext cx="463680" cy="1510200"/>
            </a:xfrm>
            <a:prstGeom prst="bentConnector3">
              <a:avLst>
                <a:gd name="adj1" fmla="val 50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8932320" y="1060560"/>
              <a:ext cx="52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35200" y="12924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9040" y="10047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9474120" y="110304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99480" y="363600"/>
              <a:ext cx="1041480" cy="155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from xA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48" idx="3"/>
              <a:endCxn id="150" idx="2"/>
            </p:cNvCxnSpPr>
            <p:nvPr/>
          </p:nvCxnSpPr>
          <p:spPr>
            <a:xfrm flipV="1">
              <a:off x="8658360" y="519120"/>
              <a:ext cx="1562040" cy="30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9084960" y="673200"/>
              <a:ext cx="57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al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9719640" y="717480"/>
              <a:ext cx="5904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54040" y="8287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1200" y="542880"/>
              <a:ext cx="12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99480" y="5544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Data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AL::AddressDetai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8840" y="2174760"/>
              <a:ext cx="110484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155160" y="3005280"/>
              <a:ext cx="1558800" cy="461880"/>
              <a:chOff x="9155160" y="3005280"/>
              <a:chExt cx="1558800" cy="461880"/>
            </a:xfrm>
          </p:grpSpPr>
          <p:sp>
            <p:nvSpPr>
              <p:cNvPr id="159" name=""/>
              <p:cNvSpPr/>
              <p:nvPr/>
            </p:nvSpPr>
            <p:spPr>
              <a:xfrm>
                <a:off x="9155160" y="3005280"/>
                <a:ext cx="1558800" cy="309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55160" y="3313080"/>
                <a:ext cx="1558800" cy="1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840" y="411120"/>
              <a:ext cx="15271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74360" y="5686560"/>
              <a:ext cx="104112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9720" y="485316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96400" y="35751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97000" y="3046320"/>
              <a:ext cx="14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638360" y="2898720"/>
              <a:ext cx="2161800" cy="719280"/>
              <a:chOff x="1638360" y="2898720"/>
              <a:chExt cx="2161800" cy="719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41240" y="3205080"/>
                <a:ext cx="2158920" cy="412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Furniture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Furniture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Furniture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8360" y="2898720"/>
                <a:ext cx="216000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Furni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96360" y="4013280"/>
              <a:ext cx="112680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6360" y="4424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3120" y="5281560"/>
              <a:ext cx="17366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1320" y="5700600"/>
              <a:ext cx="173700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9000" y="400212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16920" y="44085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6480" y="4848120"/>
              <a:ext cx="8712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26080" y="4995720"/>
              <a:ext cx="14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37560" y="5534640"/>
              <a:ext cx="115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73600" y="620352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0200" y="6270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483000" y="6370560"/>
              <a:ext cx="2251080" cy="785520"/>
              <a:chOff x="3483000" y="6370560"/>
              <a:chExt cx="2251080" cy="7855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6675480"/>
                <a:ext cx="2251080" cy="48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000" y="6370560"/>
                <a:ext cx="225108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82" idx="0"/>
              <a:endCxn id="180" idx="0"/>
            </p:cNvCxnSpPr>
            <p:nvPr/>
          </p:nvCxnSpPr>
          <p:spPr>
            <a:xfrm flipH="1" rot="16200000">
              <a:off x="3714120" y="5475960"/>
              <a:ext cx="213120" cy="1576440"/>
            </a:xfrm>
            <a:prstGeom prst="bentConnector5">
              <a:avLst>
                <a:gd name="adj1" fmla="val 81895"/>
                <a:gd name="adj2" fmla="val -18044"/>
                <a:gd name="adj3" fmla="val -158206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83" name=""/>
            <p:cNvCxnSpPr>
              <a:stCxn id="179" idx="1"/>
              <a:endCxn id="184" idx="0"/>
            </p:cNvCxnSpPr>
            <p:nvPr/>
          </p:nvCxnSpPr>
          <p:spPr>
            <a:xfrm rot="10800000">
              <a:off x="2978280" y="6369840"/>
              <a:ext cx="505080" cy="546120"/>
            </a:xfrm>
            <a:prstGeom prst="bentConnector3">
              <a:avLst>
                <a:gd name="adj1" fmla="val 14586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 flipV="1">
              <a:off x="1930320" y="59241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6960" y="614844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2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9720" y="637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78280" y="5384880"/>
              <a:ext cx="288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027320" y="510804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50608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41920" y="5172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0080" y="623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3331080" y="619776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8080" y="610704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040" y="610092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21600" y="6480000"/>
              <a:ext cx="180036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8320" y="5326200"/>
              <a:ext cx="84960" cy="115200"/>
              <a:chOff x="1768320" y="5326200"/>
              <a:chExt cx="84960" cy="115200"/>
            </a:xfrm>
          </p:grpSpPr>
          <p:sp>
            <p:nvSpPr>
              <p:cNvPr id="198" name=""/>
              <p:cNvSpPr/>
              <p:nvPr/>
            </p:nvSpPr>
            <p:spPr>
              <a:xfrm flipH="1" flipV="1">
                <a:off x="1768320" y="5325840"/>
                <a:ext cx="8496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1753200" y="5341320"/>
                <a:ext cx="11520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09720" y="544212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917080" y="6053040"/>
              <a:ext cx="115200" cy="104760"/>
              <a:chOff x="2917080" y="6053040"/>
              <a:chExt cx="115200" cy="104760"/>
            </a:xfrm>
          </p:grpSpPr>
          <p:sp>
            <p:nvSpPr>
              <p:cNvPr id="201" name=""/>
              <p:cNvSpPr/>
              <p:nvPr/>
            </p:nvSpPr>
            <p:spPr>
              <a:xfrm flipH="1" flipV="1" rot="5400000">
                <a:off x="2922120" y="604800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 rot="10800000">
                <a:off x="2917080" y="605268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endCxn id="185" idx="0"/>
            </p:cNvCxnSpPr>
            <p:nvPr/>
          </p:nvCxnSpPr>
          <p:spPr>
            <a:xfrm flipV="1" rot="10800000">
              <a:off x="1930320" y="6102360"/>
              <a:ext cx="983160" cy="2160"/>
            </a:xfrm>
            <a:prstGeom prst="bentConnector3">
              <a:avLst>
                <a:gd name="adj1" fmla="val 3820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471640" y="4940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3360" y="196056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9440" y="50576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18520" y="5646600"/>
              <a:ext cx="115200" cy="104760"/>
              <a:chOff x="2918520" y="5646600"/>
              <a:chExt cx="115200" cy="104760"/>
            </a:xfrm>
          </p:grpSpPr>
          <p:sp>
            <p:nvSpPr>
              <p:cNvPr id="207" name=""/>
              <p:cNvSpPr/>
              <p:nvPr/>
            </p:nvSpPr>
            <p:spPr>
              <a:xfrm flipH="1" flipV="1" rot="5400000">
                <a:off x="2923560" y="56415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0800000">
                <a:off x="2918520" y="564624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246560" y="3365640"/>
              <a:ext cx="3073320" cy="1481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Correction[0..1]: gml:MeasureTyp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Habita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Appartme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ImmissionPoints[0..1]: xs:I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mark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33:38Z</dcterms:created>
  <dc:creator>Birgit Joemann</dc:creator>
  <dc:description/>
  <dc:language>en-US</dc:language>
  <cp:lastModifiedBy>Claus Nagel</cp:lastModifiedBy>
  <dcterms:modified xsi:type="dcterms:W3CDTF">2007-05-31T07:18:46Z</dcterms:modified>
  <cp:revision>153</cp:revision>
  <dc:subject/>
  <dc:title>PowerPoint-Präsentation</dc:title>
</cp:coreProperties>
</file>