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839450" cy="7235825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05CC-2F32-4229-AACB-4D26653D2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10720" y="642600"/>
            <a:ext cx="921564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10720" y="2090880"/>
            <a:ext cx="921564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10720" y="4358880"/>
            <a:ext cx="921564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B36A-2C4D-4B62-A143-902A1D622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10720" y="642600"/>
            <a:ext cx="921564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10720" y="2090880"/>
            <a:ext cx="449712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533200" y="2090880"/>
            <a:ext cx="449712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10720" y="4358880"/>
            <a:ext cx="449712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533200" y="4358880"/>
            <a:ext cx="449712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C863-690D-4E9B-997A-9FBF451F0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10720" y="642600"/>
            <a:ext cx="921564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10720" y="2090880"/>
            <a:ext cx="296712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26520" y="2090880"/>
            <a:ext cx="296712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042320" y="2090880"/>
            <a:ext cx="296712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10720" y="4358880"/>
            <a:ext cx="296712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26520" y="4358880"/>
            <a:ext cx="296712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042320" y="4358880"/>
            <a:ext cx="296712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F4EB-4F4E-49C4-A1A4-01026F622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10720" y="642600"/>
            <a:ext cx="921564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10720" y="2090880"/>
            <a:ext cx="921564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D63C-7A81-4075-9728-42066E87D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10720" y="642600"/>
            <a:ext cx="921564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10720" y="2090880"/>
            <a:ext cx="9215640" cy="43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F4A7-1AF1-4161-AA0D-BB56687E1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10720" y="642600"/>
            <a:ext cx="921564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10720" y="2090880"/>
            <a:ext cx="4497120" cy="43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533200" y="2090880"/>
            <a:ext cx="4497120" cy="43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7208-EC3C-4D72-87F3-F54ED5EEA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10720" y="642600"/>
            <a:ext cx="921564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7476-6421-4C5A-AED3-6BCE1D9D0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10720" y="642600"/>
            <a:ext cx="921564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D2CE-F5EC-4074-8FF4-646010797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10720" y="642600"/>
            <a:ext cx="921564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10720" y="2090880"/>
            <a:ext cx="449712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533200" y="2090880"/>
            <a:ext cx="4497120" cy="43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10720" y="4358880"/>
            <a:ext cx="449712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F0A9-5051-487C-A577-7664E2082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10720" y="642600"/>
            <a:ext cx="921564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10720" y="2090880"/>
            <a:ext cx="4497120" cy="43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533200" y="2090880"/>
            <a:ext cx="449712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533200" y="4358880"/>
            <a:ext cx="449712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085C-4815-4461-B687-350325828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10720" y="642600"/>
            <a:ext cx="921564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10720" y="2090880"/>
            <a:ext cx="449712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33200" y="2090880"/>
            <a:ext cx="449712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10720" y="4358880"/>
            <a:ext cx="921564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776D-827D-45E2-9846-5E1871164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10720" y="642600"/>
            <a:ext cx="921564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10720" y="2090880"/>
            <a:ext cx="9215640" cy="43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10720" y="6594480"/>
            <a:ext cx="225900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01520" y="6594480"/>
            <a:ext cx="343404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67360" y="6594480"/>
            <a:ext cx="225900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7B371-C220-4FD7-ACF9-E52BA4CE47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77840" y="0"/>
            <a:ext cx="10650600" cy="7209000"/>
            <a:chOff x="177840" y="0"/>
            <a:chExt cx="10650600" cy="7209000"/>
          </a:xfrm>
        </p:grpSpPr>
        <p:sp>
          <p:nvSpPr>
            <p:cNvPr id="42" name=""/>
            <p:cNvSpPr/>
            <p:nvPr/>
          </p:nvSpPr>
          <p:spPr>
            <a:xfrm>
              <a:off x="3032280" y="5702400"/>
              <a:ext cx="2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2149560" y="5702400"/>
              <a:ext cx="768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027760" y="0"/>
              <a:ext cx="2357280" cy="3078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5640" bIns="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&lt;&lt;Feature&gt;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BuildingPar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76400" y="0"/>
              <a:ext cx="2355840" cy="3096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5640" bIns="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&lt;&lt;Feature&gt;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Build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6" name=""/>
            <p:cNvCxnSpPr>
              <a:stCxn id="47" idx="0"/>
              <a:endCxn id="48" idx="1"/>
            </p:cNvCxnSpPr>
            <p:nvPr/>
          </p:nvCxnSpPr>
          <p:spPr>
            <a:xfrm flipV="1">
              <a:off x="7059600" y="828720"/>
              <a:ext cx="905400" cy="92592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49" name=""/>
            <p:cNvSpPr/>
            <p:nvPr/>
          </p:nvSpPr>
          <p:spPr>
            <a:xfrm>
              <a:off x="7166520" y="669960"/>
              <a:ext cx="435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rot="5400000">
              <a:off x="7622640" y="712800"/>
              <a:ext cx="57240" cy="507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15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880" bIns="-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703760" y="1698480"/>
              <a:ext cx="68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/>
            <p:nvPr/>
          </p:nvCxnSpPr>
          <p:spPr>
            <a:xfrm>
              <a:off x="5374800" y="307800"/>
              <a:ext cx="1080" cy="1240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3" name=""/>
            <p:cNvCxnSpPr>
              <a:stCxn id="45" idx="3"/>
              <a:endCxn id="51" idx="0"/>
            </p:cNvCxnSpPr>
            <p:nvPr/>
          </p:nvCxnSpPr>
          <p:spPr>
            <a:xfrm>
              <a:off x="4332240" y="154800"/>
              <a:ext cx="371880" cy="154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4" name=""/>
            <p:cNvCxnSpPr>
              <a:stCxn id="44" idx="1"/>
              <a:endCxn id="51" idx="0"/>
            </p:cNvCxnSpPr>
            <p:nvPr/>
          </p:nvCxnSpPr>
          <p:spPr>
            <a:xfrm flipV="1" rot="10800000">
              <a:off x="4703760" y="153360"/>
              <a:ext cx="324360" cy="15451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55" name=""/>
            <p:cNvSpPr/>
            <p:nvPr/>
          </p:nvSpPr>
          <p:spPr>
            <a:xfrm rot="10800000">
              <a:off x="4649400" y="1565280"/>
              <a:ext cx="103320" cy="11592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42" y="63"/>
                  </a:lnTo>
                  <a:lnTo>
                    <a:pt x="0" y="63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332320" y="1522440"/>
              <a:ext cx="87480" cy="155520"/>
            </a:xfrm>
            <a:custGeom>
              <a:avLst/>
              <a:gdLst/>
              <a:ahLst/>
              <a:rect l="l" t="t" r="r" b="b"/>
              <a:pathLst>
                <a:path w="28" h="55">
                  <a:moveTo>
                    <a:pt x="14" y="55"/>
                  </a:moveTo>
                  <a:lnTo>
                    <a:pt x="0" y="28"/>
                  </a:lnTo>
                  <a:lnTo>
                    <a:pt x="14" y="0"/>
                  </a:lnTo>
                  <a:lnTo>
                    <a:pt x="28" y="28"/>
                  </a:lnTo>
                  <a:lnTo>
                    <a:pt x="14" y="5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055640" y="1546200"/>
              <a:ext cx="226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..*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744680" y="851040"/>
              <a:ext cx="226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..*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392720" y="1754280"/>
              <a:ext cx="68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921040" y="411120"/>
              <a:ext cx="693720" cy="3081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5640" bIns="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&lt;&lt;Feature&gt;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1" i="1" lang="en-US" sz="800" spc="-1" strike="noStrike">
                  <a:solidFill>
                    <a:srgbClr val="000000"/>
                  </a:solidFill>
                  <a:latin typeface="Arial"/>
                </a:rPr>
                <a:t>_Si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1" name=""/>
            <p:cNvCxnSpPr/>
            <p:nvPr/>
          </p:nvCxnSpPr>
          <p:spPr>
            <a:xfrm flipH="1">
              <a:off x="2968200" y="1842840"/>
              <a:ext cx="1302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62" name=""/>
            <p:cNvSpPr/>
            <p:nvPr/>
          </p:nvSpPr>
          <p:spPr>
            <a:xfrm>
              <a:off x="3316680" y="1708200"/>
              <a:ext cx="65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interiorRoo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650680" y="1914480"/>
              <a:ext cx="112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rot="16200000">
              <a:off x="3237480" y="1749600"/>
              <a:ext cx="57240" cy="525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15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270320" y="1811160"/>
              <a:ext cx="0" cy="8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6" name=""/>
            <p:cNvCxnSpPr>
              <a:stCxn id="60" idx="2"/>
              <a:endCxn id="59" idx="0"/>
            </p:cNvCxnSpPr>
            <p:nvPr/>
          </p:nvCxnSpPr>
          <p:spPr>
            <a:xfrm flipH="1" rot="16200000">
              <a:off x="3312720" y="673920"/>
              <a:ext cx="1035360" cy="1125360"/>
            </a:xfrm>
            <a:prstGeom prst="bentConnector3">
              <a:avLst>
                <a:gd name="adj1" fmla="val 50017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67" name=""/>
            <p:cNvSpPr/>
            <p:nvPr/>
          </p:nvSpPr>
          <p:spPr>
            <a:xfrm>
              <a:off x="3219480" y="720720"/>
              <a:ext cx="103320" cy="11592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42" y="63"/>
                  </a:lnTo>
                  <a:lnTo>
                    <a:pt x="0" y="63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8" name=""/>
            <p:cNvCxnSpPr>
              <a:stCxn id="60" idx="1"/>
              <a:endCxn id="69" idx="3"/>
            </p:cNvCxnSpPr>
            <p:nvPr/>
          </p:nvCxnSpPr>
          <p:spPr>
            <a:xfrm flipH="1">
              <a:off x="1704960" y="565200"/>
              <a:ext cx="1216440" cy="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70" name=""/>
            <p:cNvSpPr/>
            <p:nvPr/>
          </p:nvSpPr>
          <p:spPr>
            <a:xfrm rot="16200000">
              <a:off x="1699920" y="512640"/>
              <a:ext cx="115920" cy="10332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42" y="63"/>
                  </a:lnTo>
                  <a:lnTo>
                    <a:pt x="0" y="63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1" name=""/>
            <p:cNvCxnSpPr/>
            <p:nvPr/>
          </p:nvCxnSpPr>
          <p:spPr>
            <a:xfrm flipH="1" rot="16200000">
              <a:off x="695880" y="96480"/>
              <a:ext cx="818280" cy="1624680"/>
            </a:xfrm>
            <a:prstGeom prst="bentConnector3">
              <a:avLst>
                <a:gd name="adj1" fmla="val 76232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2" name=""/>
            <p:cNvCxnSpPr/>
            <p:nvPr/>
          </p:nvCxnSpPr>
          <p:spPr>
            <a:xfrm flipH="1" rot="16200000">
              <a:off x="-458280" y="1866600"/>
              <a:ext cx="4266360" cy="2764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73" name=""/>
            <p:cNvSpPr/>
            <p:nvPr/>
          </p:nvSpPr>
          <p:spPr>
            <a:xfrm>
              <a:off x="1990800" y="3260880"/>
              <a:ext cx="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75" idx="0"/>
              <a:endCxn id="73" idx="0"/>
            </p:cNvCxnSpPr>
            <p:nvPr/>
          </p:nvCxnSpPr>
          <p:spPr>
            <a:xfrm>
              <a:off x="1989720" y="2104920"/>
              <a:ext cx="1440" cy="1156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76" name=""/>
            <p:cNvSpPr/>
            <p:nvPr/>
          </p:nvSpPr>
          <p:spPr>
            <a:xfrm rot="16200000">
              <a:off x="1503720" y="2301840"/>
              <a:ext cx="790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interiorFurnitur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946160" y="1951200"/>
              <a:ext cx="87480" cy="153720"/>
            </a:xfrm>
            <a:custGeom>
              <a:avLst/>
              <a:gdLst/>
              <a:ahLst/>
              <a:rect l="l" t="t" r="r" b="b"/>
              <a:pathLst>
                <a:path w="28" h="55">
                  <a:moveTo>
                    <a:pt x="14" y="55"/>
                  </a:moveTo>
                  <a:lnTo>
                    <a:pt x="0" y="28"/>
                  </a:lnTo>
                  <a:lnTo>
                    <a:pt x="14" y="0"/>
                  </a:lnTo>
                  <a:lnTo>
                    <a:pt x="28" y="28"/>
                  </a:lnTo>
                  <a:lnTo>
                    <a:pt x="14" y="5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989000" y="2814480"/>
              <a:ext cx="112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1488600" y="2864880"/>
              <a:ext cx="3107520" cy="1602360"/>
            </a:xfrm>
            <a:prstGeom prst="bentConnector3">
              <a:avLst>
                <a:gd name="adj1" fmla="val 80210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79" name=""/>
            <p:cNvSpPr/>
            <p:nvPr/>
          </p:nvSpPr>
          <p:spPr>
            <a:xfrm>
              <a:off x="2216160" y="1957320"/>
              <a:ext cx="87480" cy="155520"/>
            </a:xfrm>
            <a:custGeom>
              <a:avLst/>
              <a:gdLst/>
              <a:ahLst/>
              <a:rect l="l" t="t" r="r" b="b"/>
              <a:pathLst>
                <a:path w="28" h="55">
                  <a:moveTo>
                    <a:pt x="14" y="55"/>
                  </a:moveTo>
                  <a:lnTo>
                    <a:pt x="0" y="28"/>
                  </a:lnTo>
                  <a:lnTo>
                    <a:pt x="14" y="0"/>
                  </a:lnTo>
                  <a:lnTo>
                    <a:pt x="28" y="28"/>
                  </a:lnTo>
                  <a:lnTo>
                    <a:pt x="14" y="5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839960" y="3424320"/>
              <a:ext cx="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>
              <a:stCxn id="82" idx="0"/>
            </p:cNvCxnSpPr>
            <p:nvPr/>
          </p:nvCxnSpPr>
          <p:spPr>
            <a:xfrm flipH="1" flipV="1">
              <a:off x="1809360" y="3600000"/>
              <a:ext cx="44280" cy="1726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83" name=""/>
            <p:cNvSpPr/>
            <p:nvPr/>
          </p:nvSpPr>
          <p:spPr>
            <a:xfrm rot="5400000">
              <a:off x="1581840" y="3936240"/>
              <a:ext cx="729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oD4Geometr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268360" y="5524560"/>
              <a:ext cx="730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od4Geometr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838160" y="5678640"/>
              <a:ext cx="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rot="16200000">
              <a:off x="2205000" y="5571720"/>
              <a:ext cx="58680" cy="5220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15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921360" y="2666880"/>
              <a:ext cx="0" cy="8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348080" y="2503440"/>
              <a:ext cx="68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9" name=""/>
            <p:cNvCxnSpPr>
              <a:endCxn id="90" idx="0"/>
            </p:cNvCxnSpPr>
            <p:nvPr/>
          </p:nvCxnSpPr>
          <p:spPr>
            <a:xfrm flipH="1" rot="10800000">
              <a:off x="3970080" y="2470320"/>
              <a:ext cx="135720" cy="2748960"/>
            </a:xfrm>
            <a:prstGeom prst="bentConnector3">
              <a:avLst>
                <a:gd name="adj1" fmla="val -72606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90" name=""/>
            <p:cNvSpPr/>
            <p:nvPr/>
          </p:nvSpPr>
          <p:spPr>
            <a:xfrm rot="5400000">
              <a:off x="4126680" y="2400840"/>
              <a:ext cx="96840" cy="139680"/>
            </a:xfrm>
            <a:custGeom>
              <a:avLst/>
              <a:gdLst/>
              <a:ahLst/>
              <a:rect l="l" t="t" r="r" b="b"/>
              <a:pathLst>
                <a:path w="28" h="55">
                  <a:moveTo>
                    <a:pt x="14" y="55"/>
                  </a:moveTo>
                  <a:lnTo>
                    <a:pt x="0" y="28"/>
                  </a:lnTo>
                  <a:lnTo>
                    <a:pt x="14" y="0"/>
                  </a:lnTo>
                  <a:lnTo>
                    <a:pt x="28" y="28"/>
                  </a:lnTo>
                  <a:lnTo>
                    <a:pt x="14" y="5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rot="5400000">
              <a:off x="3397320" y="3229560"/>
              <a:ext cx="1325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interiorerBuildingInstall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rot="10800000">
              <a:off x="4025880" y="5500440"/>
              <a:ext cx="52560" cy="586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15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59400" y="2749680"/>
              <a:ext cx="55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109520" y="5614920"/>
              <a:ext cx="1041480" cy="3081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5640" bIns="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&lt;&lt;Geometry&gt;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1" i="1" lang="de-DE" sz="800" spc="-1" strike="noStrike">
                  <a:solidFill>
                    <a:srgbClr val="000000"/>
                  </a:solidFill>
                  <a:latin typeface="Arial"/>
                </a:rPr>
                <a:t>gml::_Geometr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rot="5400000">
              <a:off x="4120920" y="1777680"/>
              <a:ext cx="96840" cy="138240"/>
            </a:xfrm>
            <a:custGeom>
              <a:avLst/>
              <a:gdLst/>
              <a:ahLst/>
              <a:rect l="l" t="t" r="r" b="b"/>
              <a:pathLst>
                <a:path w="28" h="55">
                  <a:moveTo>
                    <a:pt x="14" y="55"/>
                  </a:moveTo>
                  <a:lnTo>
                    <a:pt x="0" y="28"/>
                  </a:lnTo>
                  <a:lnTo>
                    <a:pt x="14" y="0"/>
                  </a:lnTo>
                  <a:lnTo>
                    <a:pt x="28" y="28"/>
                  </a:lnTo>
                  <a:lnTo>
                    <a:pt x="14" y="5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328760" y="1533600"/>
              <a:ext cx="1650960" cy="4284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5640" bIns="356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+class[0..1]: RoomClassTyp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+function[0..*]: RoomFunctionTyp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+usage[0..*]: RoomUsageTyp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330200" y="1227240"/>
              <a:ext cx="1649520" cy="3078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5640" bIns="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&lt;&lt;Feature&gt;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Arial"/>
                </a:rPr>
                <a:t>Roo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070080" y="1889280"/>
              <a:ext cx="112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93760" y="828720"/>
              <a:ext cx="0" cy="15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41200" y="716040"/>
              <a:ext cx="103320" cy="11592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42" y="63"/>
                  </a:lnTo>
                  <a:lnTo>
                    <a:pt x="0" y="63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736440" y="5803920"/>
              <a:ext cx="112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003200" y="5803920"/>
              <a:ext cx="112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702800" y="3645000"/>
              <a:ext cx="112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709280" y="5497560"/>
              <a:ext cx="112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162520" y="5803920"/>
              <a:ext cx="243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..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00000" y="341280"/>
              <a:ext cx="226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..*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100400" y="2271600"/>
              <a:ext cx="112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649880" y="1965240"/>
              <a:ext cx="243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..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rot="10800000">
              <a:off x="1882440" y="2785680"/>
              <a:ext cx="50760" cy="586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15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9742320" y="5280120"/>
              <a:ext cx="1041480" cy="3078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5640" bIns="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&lt;&lt;ExternalCodeList&gt;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Arial"/>
                </a:rPr>
                <a:t>RoomFunctionTyp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036680" y="1922400"/>
              <a:ext cx="112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309480" y="5803920"/>
              <a:ext cx="112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36560" y="6653160"/>
              <a:ext cx="0" cy="77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9680" y="3252960"/>
              <a:ext cx="1275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od4ImplicitRepresent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9640800" y="2581200"/>
              <a:ext cx="1069920" cy="3081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5640" bIns="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&lt;&lt;ExternalCodeList&gt;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Arial"/>
                </a:rPr>
                <a:t>RoofTypeTyp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596360" y="3578400"/>
              <a:ext cx="1126800" cy="3078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5640" bIns="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&lt;&lt;ExternalCodeList&gt;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Arial"/>
                </a:rPr>
                <a:t>BuildingClassTyp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355680" y="5307120"/>
              <a:ext cx="104760" cy="115200"/>
              <a:chOff x="355680" y="5307120"/>
              <a:chExt cx="104760" cy="115200"/>
            </a:xfrm>
          </p:grpSpPr>
          <p:sp>
            <p:nvSpPr>
              <p:cNvPr id="118" name=""/>
              <p:cNvSpPr/>
              <p:nvPr/>
            </p:nvSpPr>
            <p:spPr>
              <a:xfrm flipV="1">
                <a:off x="355680" y="5306760"/>
                <a:ext cx="104400" cy="114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V="1" rot="16200000">
                <a:off x="350280" y="5312160"/>
                <a:ext cx="115200" cy="104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20" name=""/>
            <p:cNvCxnSpPr>
              <a:stCxn id="119" idx="0"/>
              <a:endCxn id="121" idx="1"/>
            </p:cNvCxnSpPr>
            <p:nvPr/>
          </p:nvCxnSpPr>
          <p:spPr>
            <a:xfrm flipH="1" flipV="1" rot="5400000">
              <a:off x="50400" y="3716640"/>
              <a:ext cx="1896120" cy="12859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22" name=""/>
            <p:cNvSpPr/>
            <p:nvPr/>
          </p:nvSpPr>
          <p:spPr>
            <a:xfrm rot="10800000">
              <a:off x="1914480" y="5506560"/>
              <a:ext cx="52560" cy="586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15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00200" y="2584440"/>
              <a:ext cx="793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roomInstall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rot="5400000">
              <a:off x="3263760" y="2625480"/>
              <a:ext cx="58680" cy="525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15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059600" y="1754280"/>
              <a:ext cx="0" cy="15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46560" y="1986120"/>
              <a:ext cx="3073320" cy="13795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5640" bIns="356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+class[0..1]:BuildingClassTyp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+function[0..*]: BuildingFunctionTyp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+usage[0..*]:BuildingUsageTyp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+yearOfConstruction[0..1]: xs:gYea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+roofType[0..1]: RoofTypeTyp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+measuredHeight[0..1]: gml:LengthTyp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+storeysAboveGound[0..1]: xs:nonNegativeInteg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+storeysBelowGround[0..1]: xs:nonNegativeInteg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+storeyHeightsAboveGround[0..1]: gml:MeasureOrNullListTyp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+storeyHeightsBelowGround[0..1]: gml:MeasureOrNullListTyp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246560" y="1682640"/>
              <a:ext cx="3073320" cy="3081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5640" bIns="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&lt;&lt;Feature&gt;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1" i="1" lang="de-DE" sz="800" spc="-1" strike="noStrike">
                  <a:solidFill>
                    <a:srgbClr val="000000"/>
                  </a:solidFill>
                  <a:latin typeface="Arial"/>
                </a:rPr>
                <a:t>_AbstractBuild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599240" y="4846680"/>
              <a:ext cx="1737000" cy="3078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5640" bIns="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&lt;&lt;ExternalCodeList&gt;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Arial"/>
                </a:rPr>
                <a:t>BuildingInstallationClassTyp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rot="16200000">
              <a:off x="4703760" y="947520"/>
              <a:ext cx="1103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consistsOfBuildingPar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238720" y="365040"/>
              <a:ext cx="52560" cy="586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15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3062160" y="5227560"/>
              <a:ext cx="2381040" cy="784080"/>
              <a:chOff x="3062160" y="5227560"/>
              <a:chExt cx="2381040" cy="784080"/>
            </a:xfrm>
          </p:grpSpPr>
          <p:sp>
            <p:nvSpPr>
              <p:cNvPr id="132" name=""/>
              <p:cNvSpPr/>
              <p:nvPr/>
            </p:nvSpPr>
            <p:spPr>
              <a:xfrm>
                <a:off x="3062160" y="5531760"/>
                <a:ext cx="2381040" cy="47988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1640" rIns="71640" tIns="35640" bIns="356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6040"/>
                    <a:tab algn="l" pos="1432080"/>
                    <a:tab algn="l" pos="2147760"/>
                    <a:tab algn="l" pos="2863800"/>
                    <a:tab algn="l" pos="3579840"/>
                    <a:tab algn="l" pos="4295880"/>
                    <a:tab algn="l" pos="5011560"/>
                    <a:tab algn="l" pos="5727600"/>
                    <a:tab algn="l" pos="6443640"/>
                    <a:tab algn="l" pos="7159680"/>
                    <a:tab algn="l" pos="7875720"/>
                    <a:tab algn="l" pos="8591400"/>
                    <a:tab algn="l" pos="9307440"/>
                    <a:tab algn="l" pos="10023480"/>
                    <a:tab algn="l" pos="1073952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+class[0..1]:IntBuildingInstallationClassTyp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16040"/>
                    <a:tab algn="l" pos="1432080"/>
                    <a:tab algn="l" pos="2147760"/>
                    <a:tab algn="l" pos="2863800"/>
                    <a:tab algn="l" pos="3579840"/>
                    <a:tab algn="l" pos="4295880"/>
                    <a:tab algn="l" pos="5011560"/>
                    <a:tab algn="l" pos="5727600"/>
                    <a:tab algn="l" pos="6443640"/>
                    <a:tab algn="l" pos="7159680"/>
                    <a:tab algn="l" pos="7875720"/>
                    <a:tab algn="l" pos="8591400"/>
                    <a:tab algn="l" pos="9307440"/>
                    <a:tab algn="l" pos="10023480"/>
                    <a:tab algn="l" pos="1073952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+function[0..*]: IntBuildingInstallationFunctionTyp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16040"/>
                    <a:tab algn="l" pos="1432080"/>
                    <a:tab algn="l" pos="2147760"/>
                    <a:tab algn="l" pos="2863800"/>
                    <a:tab algn="l" pos="3579840"/>
                    <a:tab algn="l" pos="4295880"/>
                    <a:tab algn="l" pos="5011560"/>
                    <a:tab algn="l" pos="5727600"/>
                    <a:tab algn="l" pos="6443640"/>
                    <a:tab algn="l" pos="7159680"/>
                    <a:tab algn="l" pos="7875720"/>
                    <a:tab algn="l" pos="8591400"/>
                    <a:tab algn="l" pos="9307440"/>
                    <a:tab algn="l" pos="10023480"/>
                    <a:tab algn="l" pos="1073952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+usage[0..*]:IntBuildingInstallationUsageTyp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062160" y="5227560"/>
                <a:ext cx="2381040" cy="30780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1640" rIns="71640" tIns="35640" bIns="356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16040"/>
                    <a:tab algn="l" pos="1432080"/>
                    <a:tab algn="l" pos="2147760"/>
                    <a:tab algn="l" pos="2863800"/>
                    <a:tab algn="l" pos="3579840"/>
                    <a:tab algn="l" pos="4295880"/>
                    <a:tab algn="l" pos="5011560"/>
                    <a:tab algn="l" pos="5727600"/>
                    <a:tab algn="l" pos="6443640"/>
                    <a:tab algn="l" pos="7159680"/>
                    <a:tab algn="l" pos="7875720"/>
                    <a:tab algn="l" pos="8591400"/>
                    <a:tab algn="l" pos="9307440"/>
                    <a:tab algn="l" pos="10023480"/>
                    <a:tab algn="l" pos="1073952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&lt;&lt;Feature&gt;&gt;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16040"/>
                    <a:tab algn="l" pos="1432080"/>
                    <a:tab algn="l" pos="2147760"/>
                    <a:tab algn="l" pos="2863800"/>
                    <a:tab algn="l" pos="3579840"/>
                    <a:tab algn="l" pos="4295880"/>
                    <a:tab algn="l" pos="5011560"/>
                    <a:tab algn="l" pos="5727600"/>
                    <a:tab algn="l" pos="6443640"/>
                    <a:tab algn="l" pos="7159680"/>
                    <a:tab algn="l" pos="7875720"/>
                    <a:tab algn="l" pos="8591400"/>
                    <a:tab algn="l" pos="9307440"/>
                    <a:tab algn="l" pos="10023480"/>
                    <a:tab algn="l" pos="10739520"/>
                  </a:tabLst>
                </a:pPr>
                <a:r>
                  <a:rPr b="1" lang="de-DE" sz="800" spc="-1" strike="noStrike">
                    <a:solidFill>
                      <a:srgbClr val="000000"/>
                    </a:solidFill>
                    <a:latin typeface="Arial"/>
                  </a:rPr>
                  <a:t>IntBuildingInstallat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34" name=""/>
            <p:cNvCxnSpPr>
              <a:stCxn id="135" idx="0"/>
              <a:endCxn id="136" idx="3"/>
            </p:cNvCxnSpPr>
            <p:nvPr/>
          </p:nvCxnSpPr>
          <p:spPr>
            <a:xfrm flipV="1">
              <a:off x="1630440" y="6004440"/>
              <a:ext cx="1440" cy="339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7" name=""/>
            <p:cNvCxnSpPr>
              <a:stCxn id="138" idx="1"/>
              <a:endCxn id="118" idx="0"/>
            </p:cNvCxnSpPr>
            <p:nvPr/>
          </p:nvCxnSpPr>
          <p:spPr>
            <a:xfrm rot="10800000">
              <a:off x="355320" y="5421960"/>
              <a:ext cx="321120" cy="1478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38" name=""/>
            <p:cNvSpPr/>
            <p:nvPr/>
          </p:nvSpPr>
          <p:spPr>
            <a:xfrm>
              <a:off x="676440" y="6591240"/>
              <a:ext cx="2257200" cy="6177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5640" bIns="356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+mimeType[0..1]: MimeTypeTyp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+referenceToLibrary[0..1]: xs:anyUR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+transformation[0..1]: TransformationMatrixTyp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+referencePoint[1]: gml:PointPropertyTyp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9" name=""/>
            <p:cNvCxnSpPr>
              <a:endCxn id="94" idx="2"/>
            </p:cNvCxnSpPr>
            <p:nvPr/>
          </p:nvCxnSpPr>
          <p:spPr>
            <a:xfrm flipV="1">
              <a:off x="1630080" y="5923080"/>
              <a:ext cx="360" cy="98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40" name=""/>
            <p:cNvSpPr/>
            <p:nvPr/>
          </p:nvSpPr>
          <p:spPr>
            <a:xfrm>
              <a:off x="803160" y="6129360"/>
              <a:ext cx="8499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relativeGeometr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388160" y="5943600"/>
              <a:ext cx="243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..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669680" y="6148440"/>
              <a:ext cx="112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630440" y="63435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76440" y="6286680"/>
              <a:ext cx="2257200" cy="3078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5640" bIns="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&lt;&lt;Object&gt;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Arial"/>
                </a:rPr>
                <a:t>ImplicitGeometr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964640" y="674640"/>
              <a:ext cx="693720" cy="3081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5640" bIns="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&lt;&lt;Feature&gt;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9387000" y="1446120"/>
              <a:ext cx="868320" cy="3081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5640" bIns="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&lt;&lt;Geometry&gt;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Arial"/>
                </a:rPr>
                <a:t>gml::MultiPo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5" name=""/>
            <p:cNvCxnSpPr>
              <a:stCxn id="48" idx="2"/>
              <a:endCxn id="144" idx="0"/>
            </p:cNvCxnSpPr>
            <p:nvPr/>
          </p:nvCxnSpPr>
          <p:spPr>
            <a:xfrm flipH="1" rot="16200000">
              <a:off x="8834760" y="459360"/>
              <a:ext cx="463680" cy="1510200"/>
            </a:xfrm>
            <a:prstGeom prst="bentConnector3">
              <a:avLst>
                <a:gd name="adj1" fmla="val 50038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46" name=""/>
            <p:cNvSpPr/>
            <p:nvPr/>
          </p:nvSpPr>
          <p:spPr>
            <a:xfrm>
              <a:off x="8932320" y="1060560"/>
              <a:ext cx="522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multiPo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835200" y="1292400"/>
              <a:ext cx="243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..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339040" y="1004760"/>
              <a:ext cx="112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rot="5400000">
              <a:off x="9474120" y="1103040"/>
              <a:ext cx="58680" cy="525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15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9699480" y="363600"/>
              <a:ext cx="1041480" cy="1555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5640" bIns="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(from xAL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1" name=""/>
            <p:cNvCxnSpPr>
              <a:stCxn id="48" idx="3"/>
              <a:endCxn id="150" idx="2"/>
            </p:cNvCxnSpPr>
            <p:nvPr/>
          </p:nvCxnSpPr>
          <p:spPr>
            <a:xfrm flipV="1">
              <a:off x="8658360" y="519120"/>
              <a:ext cx="1562040" cy="309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52" name=""/>
            <p:cNvSpPr/>
            <p:nvPr/>
          </p:nvSpPr>
          <p:spPr>
            <a:xfrm>
              <a:off x="9084960" y="673200"/>
              <a:ext cx="578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xalAddres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9719640" y="717480"/>
              <a:ext cx="59040" cy="5220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15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654040" y="828720"/>
              <a:ext cx="243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..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0231200" y="542880"/>
              <a:ext cx="129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9699480" y="55440"/>
              <a:ext cx="1041480" cy="3081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5640" bIns="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&lt;&lt;DataType&gt;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Arial"/>
                </a:rPr>
                <a:t>xAL::AddressDetail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9618840" y="2174760"/>
              <a:ext cx="1104840" cy="3081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5640" bIns="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&lt;&lt;ExternalCodeList&gt;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Arial"/>
                </a:rPr>
                <a:t>MimeTypeTyp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8" name=""/>
            <p:cNvGrpSpPr/>
            <p:nvPr/>
          </p:nvGrpSpPr>
          <p:grpSpPr>
            <a:xfrm>
              <a:off x="9155160" y="3005280"/>
              <a:ext cx="1558800" cy="461880"/>
              <a:chOff x="9155160" y="3005280"/>
              <a:chExt cx="1558800" cy="461880"/>
            </a:xfrm>
          </p:grpSpPr>
          <p:sp>
            <p:nvSpPr>
              <p:cNvPr id="159" name=""/>
              <p:cNvSpPr/>
              <p:nvPr/>
            </p:nvSpPr>
            <p:spPr>
              <a:xfrm>
                <a:off x="9155160" y="3005280"/>
                <a:ext cx="1558800" cy="30960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1640" rIns="71640" tIns="35640" bIns="356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16040"/>
                    <a:tab algn="l" pos="1432080"/>
                    <a:tab algn="l" pos="2147760"/>
                    <a:tab algn="l" pos="2863800"/>
                    <a:tab algn="l" pos="3579840"/>
                    <a:tab algn="l" pos="4295880"/>
                    <a:tab algn="l" pos="5011560"/>
                    <a:tab algn="l" pos="5727600"/>
                    <a:tab algn="l" pos="6443640"/>
                    <a:tab algn="l" pos="7159680"/>
                    <a:tab algn="l" pos="7875720"/>
                    <a:tab algn="l" pos="8591400"/>
                    <a:tab algn="l" pos="9307440"/>
                    <a:tab algn="l" pos="10023480"/>
                    <a:tab algn="l" pos="1073952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&lt;&lt;PrimitiveType&gt;&gt;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16040"/>
                    <a:tab algn="l" pos="1432080"/>
                    <a:tab algn="l" pos="2147760"/>
                    <a:tab algn="l" pos="2863800"/>
                    <a:tab algn="l" pos="3579840"/>
                    <a:tab algn="l" pos="4295880"/>
                    <a:tab algn="l" pos="5011560"/>
                    <a:tab algn="l" pos="5727600"/>
                    <a:tab algn="l" pos="6443640"/>
                    <a:tab algn="l" pos="7159680"/>
                    <a:tab algn="l" pos="7875720"/>
                    <a:tab algn="l" pos="8591400"/>
                    <a:tab algn="l" pos="9307440"/>
                    <a:tab algn="l" pos="10023480"/>
                    <a:tab algn="l" pos="10739520"/>
                  </a:tabLst>
                </a:pPr>
                <a:r>
                  <a:rPr b="1" lang="de-DE" sz="800" spc="-1" strike="noStrike">
                    <a:solidFill>
                      <a:srgbClr val="000000"/>
                    </a:solidFill>
                    <a:latin typeface="Arial"/>
                  </a:rPr>
                  <a:t>TransformationMatrix4x4Typ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9155160" y="3313080"/>
                <a:ext cx="1558800" cy="15408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1640" rIns="71640" tIns="35640" bIns="356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6040"/>
                    <a:tab algn="l" pos="1432080"/>
                    <a:tab algn="l" pos="2147760"/>
                    <a:tab algn="l" pos="2863800"/>
                    <a:tab algn="l" pos="3579840"/>
                    <a:tab algn="l" pos="4295880"/>
                    <a:tab algn="l" pos="5011560"/>
                    <a:tab algn="l" pos="5727600"/>
                    <a:tab algn="l" pos="6443640"/>
                    <a:tab algn="l" pos="7159680"/>
                    <a:tab algn="l" pos="7875720"/>
                    <a:tab algn="l" pos="8591400"/>
                    <a:tab algn="l" pos="9307440"/>
                    <a:tab algn="l" pos="10023480"/>
                    <a:tab algn="l" pos="1073952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+xs:double[16]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" name=""/>
            <p:cNvSpPr/>
            <p:nvPr/>
          </p:nvSpPr>
          <p:spPr>
            <a:xfrm>
              <a:off x="177840" y="411120"/>
              <a:ext cx="1527120" cy="3081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5640" bIns="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&lt;&lt;Feature&gt;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1" i="1" lang="de-DE" sz="800" spc="-1" strike="noStrike">
                  <a:solidFill>
                    <a:srgbClr val="000000"/>
                  </a:solidFill>
                  <a:latin typeface="Arial"/>
                </a:rPr>
                <a:t>_CityObjec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9774360" y="5686560"/>
              <a:ext cx="1041120" cy="3096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5640" bIns="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&lt;&lt;ExternalCodeList&gt;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Arial"/>
                </a:rPr>
                <a:t>RoomUsageTyp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9729720" y="4853160"/>
              <a:ext cx="1041480" cy="3078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5640" bIns="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&lt;&lt;ExternalCodeList&gt;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Arial"/>
                </a:rPr>
                <a:t>RoomClassTyp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996400" y="3575160"/>
              <a:ext cx="1736640" cy="3078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5640" bIns="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&lt;&lt;ExternalCodeList&gt;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Arial"/>
                </a:rPr>
                <a:t>BuildingFurnitureClassTyp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297000" y="3046320"/>
              <a:ext cx="141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5" name=""/>
            <p:cNvGrpSpPr/>
            <p:nvPr/>
          </p:nvGrpSpPr>
          <p:grpSpPr>
            <a:xfrm>
              <a:off x="1638360" y="2898720"/>
              <a:ext cx="2161800" cy="719280"/>
              <a:chOff x="1638360" y="2898720"/>
              <a:chExt cx="2161800" cy="719280"/>
            </a:xfrm>
          </p:grpSpPr>
          <p:sp>
            <p:nvSpPr>
              <p:cNvPr id="121" name=""/>
              <p:cNvSpPr/>
              <p:nvPr/>
            </p:nvSpPr>
            <p:spPr>
              <a:xfrm>
                <a:off x="1641240" y="3205080"/>
                <a:ext cx="2158920" cy="4129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1640" rIns="71640" tIns="35640" bIns="356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6040"/>
                    <a:tab algn="l" pos="1432080"/>
                    <a:tab algn="l" pos="2147760"/>
                    <a:tab algn="l" pos="2863800"/>
                    <a:tab algn="l" pos="3579840"/>
                    <a:tab algn="l" pos="4295880"/>
                    <a:tab algn="l" pos="5011560"/>
                    <a:tab algn="l" pos="5727600"/>
                    <a:tab algn="l" pos="6443640"/>
                    <a:tab algn="l" pos="7159680"/>
                    <a:tab algn="l" pos="7875720"/>
                    <a:tab algn="l" pos="8591400"/>
                    <a:tab algn="l" pos="9307440"/>
                    <a:tab algn="l" pos="10023480"/>
                    <a:tab algn="l" pos="1073952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+class[0..1]:BuildingFurnitureClassTyp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16040"/>
                    <a:tab algn="l" pos="1432080"/>
                    <a:tab algn="l" pos="2147760"/>
                    <a:tab algn="l" pos="2863800"/>
                    <a:tab algn="l" pos="3579840"/>
                    <a:tab algn="l" pos="4295880"/>
                    <a:tab algn="l" pos="5011560"/>
                    <a:tab algn="l" pos="5727600"/>
                    <a:tab algn="l" pos="6443640"/>
                    <a:tab algn="l" pos="7159680"/>
                    <a:tab algn="l" pos="7875720"/>
                    <a:tab algn="l" pos="8591400"/>
                    <a:tab algn="l" pos="9307440"/>
                    <a:tab algn="l" pos="10023480"/>
                    <a:tab algn="l" pos="1073952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+function[0..*]: BuildingFurnitureFunctionTyp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16040"/>
                    <a:tab algn="l" pos="1432080"/>
                    <a:tab algn="l" pos="2147760"/>
                    <a:tab algn="l" pos="2863800"/>
                    <a:tab algn="l" pos="3579840"/>
                    <a:tab algn="l" pos="4295880"/>
                    <a:tab algn="l" pos="5011560"/>
                    <a:tab algn="l" pos="5727600"/>
                    <a:tab algn="l" pos="6443640"/>
                    <a:tab algn="l" pos="7159680"/>
                    <a:tab algn="l" pos="7875720"/>
                    <a:tab algn="l" pos="8591400"/>
                    <a:tab algn="l" pos="9307440"/>
                    <a:tab algn="l" pos="10023480"/>
                    <a:tab algn="l" pos="1073952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+usage[0..*]:BuildingFurnitureUsageTyp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1638360" y="2898720"/>
                <a:ext cx="2160000" cy="30816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1640" rIns="71640" tIns="35640" bIns="356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16040"/>
                    <a:tab algn="l" pos="1432080"/>
                    <a:tab algn="l" pos="2147760"/>
                    <a:tab algn="l" pos="2863800"/>
                    <a:tab algn="l" pos="3579840"/>
                    <a:tab algn="l" pos="4295880"/>
                    <a:tab algn="l" pos="5011560"/>
                    <a:tab algn="l" pos="5727600"/>
                    <a:tab algn="l" pos="6443640"/>
                    <a:tab algn="l" pos="7159680"/>
                    <a:tab algn="l" pos="7875720"/>
                    <a:tab algn="l" pos="8591400"/>
                    <a:tab algn="l" pos="9307440"/>
                    <a:tab algn="l" pos="10023480"/>
                    <a:tab algn="l" pos="1073952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&lt;&lt;Feature&gt;&gt;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16040"/>
                    <a:tab algn="l" pos="1432080"/>
                    <a:tab algn="l" pos="2147760"/>
                    <a:tab algn="l" pos="2863800"/>
                    <a:tab algn="l" pos="3579840"/>
                    <a:tab algn="l" pos="4295880"/>
                    <a:tab algn="l" pos="5011560"/>
                    <a:tab algn="l" pos="5727600"/>
                    <a:tab algn="l" pos="6443640"/>
                    <a:tab algn="l" pos="7159680"/>
                    <a:tab algn="l" pos="7875720"/>
                    <a:tab algn="l" pos="8591400"/>
                    <a:tab algn="l" pos="9307440"/>
                    <a:tab algn="l" pos="10023480"/>
                    <a:tab algn="l" pos="10739520"/>
                  </a:tabLst>
                </a:pPr>
                <a:r>
                  <a:rPr b="1" lang="de-DE" sz="800" spc="-1" strike="noStrike">
                    <a:solidFill>
                      <a:srgbClr val="000000"/>
                    </a:solidFill>
                    <a:latin typeface="Arial"/>
                  </a:rPr>
                  <a:t>BuildingFurnitur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7" name=""/>
            <p:cNvSpPr/>
            <p:nvPr/>
          </p:nvSpPr>
          <p:spPr>
            <a:xfrm>
              <a:off x="7596360" y="4013280"/>
              <a:ext cx="1126800" cy="3096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5640" bIns="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&lt;&lt;ExternalCodeList&gt;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Arial"/>
                </a:rPr>
                <a:t>BuildingFunctionTyp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596360" y="4424400"/>
              <a:ext cx="1126800" cy="3078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5640" bIns="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&lt;&lt;ExternalCodeList&gt;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Arial"/>
                </a:rPr>
                <a:t>BuildingUsageTyp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593120" y="5281560"/>
              <a:ext cx="1736640" cy="3096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5640" bIns="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&lt;&lt;ExternalCodeList&gt;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Arial"/>
                </a:rPr>
                <a:t>BuildingInstallationFunctionTyp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591320" y="5700600"/>
              <a:ext cx="1737000" cy="3081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5640" bIns="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&lt;&lt;ExternalCodeList&gt;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Arial"/>
                </a:rPr>
                <a:t>BuildingInstallationUsageTyp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9009000" y="4002120"/>
              <a:ext cx="1736640" cy="3078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5640" bIns="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&lt;&lt;ExternalCodeList&gt;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Arial"/>
                </a:rPr>
                <a:t>BuildingFurnitureFunctionTyp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9016920" y="4408560"/>
              <a:ext cx="1736640" cy="3078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5640" bIns="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&lt;&lt;ExternalCodeList&gt;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Arial"/>
                </a:rPr>
                <a:t>BuildingFurnitureUsageTyp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586480" y="4848120"/>
              <a:ext cx="87120" cy="155520"/>
            </a:xfrm>
            <a:custGeom>
              <a:avLst/>
              <a:gdLst/>
              <a:ahLst/>
              <a:rect l="l" t="t" r="r" b="b"/>
              <a:pathLst>
                <a:path w="28" h="55">
                  <a:moveTo>
                    <a:pt x="14" y="55"/>
                  </a:moveTo>
                  <a:lnTo>
                    <a:pt x="0" y="28"/>
                  </a:lnTo>
                  <a:lnTo>
                    <a:pt x="14" y="0"/>
                  </a:lnTo>
                  <a:lnTo>
                    <a:pt x="28" y="28"/>
                  </a:lnTo>
                  <a:lnTo>
                    <a:pt x="14" y="5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5626080" y="4995720"/>
              <a:ext cx="1440" cy="174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rot="5400000">
              <a:off x="5137560" y="5534640"/>
              <a:ext cx="1156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outerBuildingInstall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0800000">
              <a:off x="5673600" y="6203520"/>
              <a:ext cx="52560" cy="5724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15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470200" y="6270480"/>
              <a:ext cx="112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3483000" y="6370560"/>
              <a:ext cx="2251080" cy="785520"/>
              <a:chOff x="3483000" y="6370560"/>
              <a:chExt cx="2251080" cy="785520"/>
            </a:xfrm>
          </p:grpSpPr>
          <p:sp>
            <p:nvSpPr>
              <p:cNvPr id="179" name=""/>
              <p:cNvSpPr/>
              <p:nvPr/>
            </p:nvSpPr>
            <p:spPr>
              <a:xfrm>
                <a:off x="3483000" y="6675480"/>
                <a:ext cx="2251080" cy="48060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1640" rIns="71640" tIns="35640" bIns="356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6040"/>
                    <a:tab algn="l" pos="1432080"/>
                    <a:tab algn="l" pos="2147760"/>
                    <a:tab algn="l" pos="2863800"/>
                    <a:tab algn="l" pos="3579840"/>
                    <a:tab algn="l" pos="4295880"/>
                    <a:tab algn="l" pos="5011560"/>
                    <a:tab algn="l" pos="5727600"/>
                    <a:tab algn="l" pos="6443640"/>
                    <a:tab algn="l" pos="7159680"/>
                    <a:tab algn="l" pos="7875720"/>
                    <a:tab algn="l" pos="8591400"/>
                    <a:tab algn="l" pos="9307440"/>
                    <a:tab algn="l" pos="10023480"/>
                    <a:tab algn="l" pos="1073952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+class[0..1]:BuildingInstallationClassTyp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16040"/>
                    <a:tab algn="l" pos="1432080"/>
                    <a:tab algn="l" pos="2147760"/>
                    <a:tab algn="l" pos="2863800"/>
                    <a:tab algn="l" pos="3579840"/>
                    <a:tab algn="l" pos="4295880"/>
                    <a:tab algn="l" pos="5011560"/>
                    <a:tab algn="l" pos="5727600"/>
                    <a:tab algn="l" pos="6443640"/>
                    <a:tab algn="l" pos="7159680"/>
                    <a:tab algn="l" pos="7875720"/>
                    <a:tab algn="l" pos="8591400"/>
                    <a:tab algn="l" pos="9307440"/>
                    <a:tab algn="l" pos="10023480"/>
                    <a:tab algn="l" pos="1073952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+function[0..*]: BuildingInstallationFunctionTyp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16040"/>
                    <a:tab algn="l" pos="1432080"/>
                    <a:tab algn="l" pos="2147760"/>
                    <a:tab algn="l" pos="2863800"/>
                    <a:tab algn="l" pos="3579840"/>
                    <a:tab algn="l" pos="4295880"/>
                    <a:tab algn="l" pos="5011560"/>
                    <a:tab algn="l" pos="5727600"/>
                    <a:tab algn="l" pos="6443640"/>
                    <a:tab algn="l" pos="7159680"/>
                    <a:tab algn="l" pos="7875720"/>
                    <a:tab algn="l" pos="8591400"/>
                    <a:tab algn="l" pos="9307440"/>
                    <a:tab algn="l" pos="10023480"/>
                    <a:tab algn="l" pos="1073952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+usage[0..*]:BuildingInstallationUsageTyp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3483000" y="6370560"/>
                <a:ext cx="2251080" cy="30816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1640" rIns="71640" tIns="35640" bIns="356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16040"/>
                    <a:tab algn="l" pos="1432080"/>
                    <a:tab algn="l" pos="2147760"/>
                    <a:tab algn="l" pos="2863800"/>
                    <a:tab algn="l" pos="3579840"/>
                    <a:tab algn="l" pos="4295880"/>
                    <a:tab algn="l" pos="5011560"/>
                    <a:tab algn="l" pos="5727600"/>
                    <a:tab algn="l" pos="6443640"/>
                    <a:tab algn="l" pos="7159680"/>
                    <a:tab algn="l" pos="7875720"/>
                    <a:tab algn="l" pos="8591400"/>
                    <a:tab algn="l" pos="9307440"/>
                    <a:tab algn="l" pos="10023480"/>
                    <a:tab algn="l" pos="1073952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&lt;&lt;Feature&gt;&gt;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16040"/>
                    <a:tab algn="l" pos="1432080"/>
                    <a:tab algn="l" pos="2147760"/>
                    <a:tab algn="l" pos="2863800"/>
                    <a:tab algn="l" pos="3579840"/>
                    <a:tab algn="l" pos="4295880"/>
                    <a:tab algn="l" pos="5011560"/>
                    <a:tab algn="l" pos="5727600"/>
                    <a:tab algn="l" pos="6443640"/>
                    <a:tab algn="l" pos="7159680"/>
                    <a:tab algn="l" pos="7875720"/>
                    <a:tab algn="l" pos="8591400"/>
                    <a:tab algn="l" pos="9307440"/>
                    <a:tab algn="l" pos="10023480"/>
                    <a:tab algn="l" pos="10739520"/>
                  </a:tabLst>
                </a:pPr>
                <a:r>
                  <a:rPr b="1" lang="de-DE" sz="800" spc="-1" strike="noStrike">
                    <a:solidFill>
                      <a:srgbClr val="000000"/>
                    </a:solidFill>
                    <a:latin typeface="Arial"/>
                  </a:rPr>
                  <a:t>BuildingInstallat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81" name=""/>
            <p:cNvCxnSpPr>
              <a:stCxn id="182" idx="0"/>
              <a:endCxn id="180" idx="0"/>
            </p:cNvCxnSpPr>
            <p:nvPr/>
          </p:nvCxnSpPr>
          <p:spPr>
            <a:xfrm flipH="1" rot="16200000">
              <a:off x="3714120" y="5475960"/>
              <a:ext cx="213120" cy="1576440"/>
            </a:xfrm>
            <a:prstGeom prst="bentConnector5">
              <a:avLst>
                <a:gd name="adj1" fmla="val 81895"/>
                <a:gd name="adj2" fmla="val -18044"/>
                <a:gd name="adj3" fmla="val -158206"/>
              </a:avLst>
            </a:prstGeom>
            <a:ln w="9360">
              <a:solidFill>
                <a:srgbClr val="000000"/>
              </a:solidFill>
              <a:prstDash val="dash"/>
              <a:miter/>
            </a:ln>
          </p:spPr>
        </p:cxnSp>
        <p:cxnSp>
          <p:nvCxnSpPr>
            <p:cNvPr id="183" name=""/>
            <p:cNvCxnSpPr>
              <a:stCxn id="179" idx="1"/>
              <a:endCxn id="184" idx="0"/>
            </p:cNvCxnSpPr>
            <p:nvPr/>
          </p:nvCxnSpPr>
          <p:spPr>
            <a:xfrm rot="10800000">
              <a:off x="2978280" y="6369840"/>
              <a:ext cx="505080" cy="546120"/>
            </a:xfrm>
            <a:prstGeom prst="bentConnector3">
              <a:avLst>
                <a:gd name="adj1" fmla="val 145863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85" name=""/>
            <p:cNvSpPr/>
            <p:nvPr/>
          </p:nvSpPr>
          <p:spPr>
            <a:xfrm flipV="1">
              <a:off x="1930320" y="5924160"/>
              <a:ext cx="0" cy="18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96960" y="6148440"/>
              <a:ext cx="11530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lodXGeometry, X</a:t>
              </a:r>
              <a:r>
                <a:rPr b="0" lang="de-DE" sz="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[2..4]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979720" y="637056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2978280" y="5384880"/>
              <a:ext cx="2880" cy="98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10800000">
              <a:off x="4027320" y="5108040"/>
              <a:ext cx="52560" cy="5724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15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108320" y="5060880"/>
              <a:ext cx="112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841920" y="5172120"/>
              <a:ext cx="0" cy="5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600080" y="6232680"/>
              <a:ext cx="112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rot="16200000">
              <a:off x="3331080" y="6197760"/>
              <a:ext cx="57240" cy="525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15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9028080" y="6107040"/>
              <a:ext cx="1800360" cy="287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5640" bIns="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&lt;&lt;ExternalCodeList&gt;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Arial"/>
                </a:rPr>
                <a:t>IntBuildingInstallationUsageTyp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034040" y="6100920"/>
              <a:ext cx="1800360" cy="287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5640" bIns="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&lt;&lt;ExternalCodeList&gt;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Arial"/>
                </a:rPr>
                <a:t>IntBuildingInstallationFunctionTyp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9021600" y="6480000"/>
              <a:ext cx="1800360" cy="2876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5640" bIns="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&lt;&lt;ExternalCodeList&gt;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Arial"/>
                </a:rPr>
                <a:t>IntBuildingInstallationClassTyp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7" name=""/>
            <p:cNvGrpSpPr/>
            <p:nvPr/>
          </p:nvGrpSpPr>
          <p:grpSpPr>
            <a:xfrm>
              <a:off x="1768320" y="5326200"/>
              <a:ext cx="84960" cy="115200"/>
              <a:chOff x="1768320" y="5326200"/>
              <a:chExt cx="84960" cy="115200"/>
            </a:xfrm>
          </p:grpSpPr>
          <p:sp>
            <p:nvSpPr>
              <p:cNvPr id="198" name=""/>
              <p:cNvSpPr/>
              <p:nvPr/>
            </p:nvSpPr>
            <p:spPr>
              <a:xfrm flipH="1" flipV="1">
                <a:off x="1768320" y="5325840"/>
                <a:ext cx="84960" cy="114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 flipV="1" rot="5400000">
                <a:off x="1753200" y="5341320"/>
                <a:ext cx="115200" cy="84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9" name=""/>
            <p:cNvSpPr/>
            <p:nvPr/>
          </p:nvSpPr>
          <p:spPr>
            <a:xfrm>
              <a:off x="1809720" y="5442120"/>
              <a:ext cx="0" cy="16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0" name=""/>
            <p:cNvGrpSpPr/>
            <p:nvPr/>
          </p:nvGrpSpPr>
          <p:grpSpPr>
            <a:xfrm>
              <a:off x="2917080" y="6053040"/>
              <a:ext cx="115200" cy="104760"/>
              <a:chOff x="2917080" y="6053040"/>
              <a:chExt cx="115200" cy="104760"/>
            </a:xfrm>
          </p:grpSpPr>
          <p:sp>
            <p:nvSpPr>
              <p:cNvPr id="201" name=""/>
              <p:cNvSpPr/>
              <p:nvPr/>
            </p:nvSpPr>
            <p:spPr>
              <a:xfrm flipH="1" flipV="1" rot="5400000">
                <a:off x="2922120" y="6048000"/>
                <a:ext cx="104400" cy="114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flipH="1" flipV="1" rot="10800000">
                <a:off x="2917080" y="6052680"/>
                <a:ext cx="115200" cy="104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02" name=""/>
            <p:cNvCxnSpPr>
              <a:endCxn id="185" idx="0"/>
            </p:cNvCxnSpPr>
            <p:nvPr/>
          </p:nvCxnSpPr>
          <p:spPr>
            <a:xfrm flipV="1" rot="10800000">
              <a:off x="1930320" y="6102360"/>
              <a:ext cx="983160" cy="2160"/>
            </a:xfrm>
            <a:prstGeom prst="bentConnector3">
              <a:avLst>
                <a:gd name="adj1" fmla="val 38205"/>
              </a:avLst>
            </a:prstGeom>
            <a:ln w="9360">
              <a:solidFill>
                <a:srgbClr val="000000"/>
              </a:solidFill>
              <a:prstDash val="dash"/>
              <a:miter/>
            </a:ln>
          </p:spPr>
        </p:cxnSp>
        <p:sp>
          <p:nvSpPr>
            <p:cNvPr id="203" name=""/>
            <p:cNvSpPr/>
            <p:nvPr/>
          </p:nvSpPr>
          <p:spPr>
            <a:xfrm>
              <a:off x="5471640" y="4940280"/>
              <a:ext cx="112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313360" y="1960560"/>
              <a:ext cx="243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..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709440" y="5057640"/>
              <a:ext cx="112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6" name=""/>
            <p:cNvGrpSpPr/>
            <p:nvPr/>
          </p:nvGrpSpPr>
          <p:grpSpPr>
            <a:xfrm>
              <a:off x="2918520" y="5646600"/>
              <a:ext cx="115200" cy="104760"/>
              <a:chOff x="2918520" y="5646600"/>
              <a:chExt cx="115200" cy="104760"/>
            </a:xfrm>
          </p:grpSpPr>
          <p:sp>
            <p:nvSpPr>
              <p:cNvPr id="207" name=""/>
              <p:cNvSpPr/>
              <p:nvPr/>
            </p:nvSpPr>
            <p:spPr>
              <a:xfrm flipH="1" flipV="1" rot="5400000">
                <a:off x="2923560" y="5641560"/>
                <a:ext cx="104400" cy="114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flipH="1" flipV="1" rot="10800000">
                <a:off x="2918520" y="5646240"/>
                <a:ext cx="115200" cy="104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4246560" y="3365640"/>
              <a:ext cx="3073320" cy="14810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5640" bIns="356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+buildingReflection[0..1]: xs:str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+buildingReflectionCorrection[0..1]: gml:MeasureType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+buildingLDenMax[0..1]: gml:MeasureTyp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+buildingLDenMin[0..1]: gml:MeasureTyp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+buildingLNightMax[0..1]: gml:MeasureTyp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+buildingLNightMin[0..1]: gml:MeasureTyp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+buildingLDenEq[0..1]: gml:MeasureTyp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+buildingLNightEq[0..1]: gml:MeasureTyp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+buildingHabitants[0..1]: xs:positiveInteg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+buildingAppartments[0..1]: xs:positiveInteg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+buildingImmissionPoints[0..1]: xs:IntLis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+remark[0..1]: xs:str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2T14:33:38Z</dcterms:created>
  <dc:creator>Birgit Joemann</dc:creator>
  <dc:description/>
  <dc:language>en-US</dc:language>
  <cp:lastModifiedBy>Claus Nagel</cp:lastModifiedBy>
  <dcterms:modified xsi:type="dcterms:W3CDTF">2007-05-31T07:18:46Z</dcterms:modified>
  <cp:revision>153</cp:revision>
  <dc:subject/>
  <dc:title>PowerPoint-Präsentation</dc:title>
</cp:coreProperties>
</file>