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3E1-9390-42EF-8430-C8E33E8B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0000" y="416160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684-3A0B-4E01-AB44-E86A4A8C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4148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68C-1F01-44E3-B743-2EB09CD4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6436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9872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000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6436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9872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D64-C743-4D4D-AC5B-41E4F43E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E5A-3830-42AF-B4B9-9AF2CDF3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9A9-A2F5-4922-9531-F1EA6DE6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983-417C-40E1-B567-CAB9F48C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413-B1FD-42A2-859D-58041713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0000" y="288720"/>
            <a:ext cx="113410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B9C-7A7F-47AD-B01B-94E0FE2A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A84-C1E4-4AF5-84B4-6CC73560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4148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0B3-BF86-49CA-AD6C-10D57CE1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67A-EA1F-4421-BEF9-16F3FC07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 fontScale="92000"/>
          </a:bodyPr>
          <a:p>
            <a:pPr marL="389520" indent="-389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3254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5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21240" indent="-25992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342520" indent="-2599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342520" indent="-2599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342520" indent="-2599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360" y="6557760"/>
            <a:ext cx="293976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05240" y="6557760"/>
            <a:ext cx="399096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030960" y="6557760"/>
            <a:ext cx="294012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 algn="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fld id="{A87BC6CC-0935-41F9-B66E-BEA000C465E3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01040" y="2765520"/>
            <a:ext cx="143964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Arial"/>
              </a:rPr>
              <a:t>_Transportation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720440" y="3782880"/>
            <a:ext cx="125892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GeometricComp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286920" y="4635360"/>
            <a:ext cx="228276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uxiliary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79040" y="5983200"/>
            <a:ext cx="900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MultiSu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35800" y="1660680"/>
            <a:ext cx="71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35800" y="2058840"/>
            <a:ext cx="71892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35800" y="2440080"/>
            <a:ext cx="71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Rail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35800" y="2803680"/>
            <a:ext cx="71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229840" y="2381400"/>
            <a:ext cx="125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SurfaceMaterial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233080" y="1719360"/>
            <a:ext cx="125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52" idx="2"/>
            <a:endCxn id="41" idx="0"/>
          </p:cNvCxnSpPr>
          <p:nvPr/>
        </p:nvCxnSpPr>
        <p:spPr>
          <a:xfrm flipH="1">
            <a:off x="8320680" y="1990800"/>
            <a:ext cx="6120" cy="775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0"/>
            <a:endCxn id="41" idx="2"/>
          </p:cNvCxnSpPr>
          <p:nvPr/>
        </p:nvCxnSpPr>
        <p:spPr>
          <a:xfrm flipV="1">
            <a:off x="8319240" y="3052800"/>
            <a:ext cx="180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5" idx="3"/>
            <a:endCxn id="56" idx="0"/>
          </p:cNvCxnSpPr>
          <p:nvPr/>
        </p:nvCxnSpPr>
        <p:spPr>
          <a:xfrm>
            <a:off x="7254720" y="1804320"/>
            <a:ext cx="153000" cy="187596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6" idx="3"/>
            <a:endCxn id="56" idx="0"/>
          </p:cNvCxnSpPr>
          <p:nvPr/>
        </p:nvCxnSpPr>
        <p:spPr>
          <a:xfrm>
            <a:off x="7254720" y="2202480"/>
            <a:ext cx="153000" cy="147780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7" idx="3"/>
            <a:endCxn id="56" idx="0"/>
          </p:cNvCxnSpPr>
          <p:nvPr/>
        </p:nvCxnSpPr>
        <p:spPr>
          <a:xfrm>
            <a:off x="7254720" y="2583720"/>
            <a:ext cx="153000" cy="109656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8" idx="3"/>
            <a:endCxn id="56" idx="0"/>
          </p:cNvCxnSpPr>
          <p:nvPr/>
        </p:nvCxnSpPr>
        <p:spPr>
          <a:xfrm>
            <a:off x="7254720" y="2947320"/>
            <a:ext cx="153000" cy="732960"/>
          </a:xfrm>
          <a:prstGeom prst="bentConnector3">
            <a:avLst>
              <a:gd name="adj1" fmla="val 2518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7059600" y="3757680"/>
            <a:ext cx="2519280" cy="34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function[0..*]: TransportationComplex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usage[0..*]: TransportationComplex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0" idx="3"/>
            <a:endCxn id="42" idx="1"/>
          </p:cNvCxnSpPr>
          <p:nvPr/>
        </p:nvCxnSpPr>
        <p:spPr>
          <a:xfrm flipV="1">
            <a:off x="9578880" y="3926520"/>
            <a:ext cx="114192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63" idx="0"/>
            <a:endCxn id="60" idx="2"/>
          </p:cNvCxnSpPr>
          <p:nvPr/>
        </p:nvCxnSpPr>
        <p:spPr>
          <a:xfrm flipH="1" flipV="1" rot="5400000">
            <a:off x="7339680" y="3657960"/>
            <a:ext cx="537120" cy="1422000"/>
          </a:xfrm>
          <a:prstGeom prst="bentConnector3">
            <a:avLst>
              <a:gd name="adj1" fmla="val 495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3" idx="0"/>
            <a:endCxn id="60" idx="2"/>
          </p:cNvCxnSpPr>
          <p:nvPr/>
        </p:nvCxnSpPr>
        <p:spPr>
          <a:xfrm flipV="1" rot="16200000">
            <a:off x="9106200" y="3313440"/>
            <a:ext cx="535320" cy="210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9845280" y="3750120"/>
            <a:ext cx="710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0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617040" y="39751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571040" y="39751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73880" y="200196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7353360" y="337176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75680" y="4108320"/>
            <a:ext cx="90360" cy="144720"/>
          </a:xfrm>
          <a:custGeom>
            <a:avLst/>
            <a:gdLst/>
            <a:ahLst/>
            <a:rect l="l" t="t" r="r" b="b"/>
            <a:pathLst>
              <a:path w="28" h="55">
                <a:moveTo>
                  <a:pt x="14" y="55"/>
                </a:moveTo>
                <a:lnTo>
                  <a:pt x="0" y="28"/>
                </a:lnTo>
                <a:lnTo>
                  <a:pt x="14" y="0"/>
                </a:lnTo>
                <a:lnTo>
                  <a:pt x="28" y="28"/>
                </a:lnTo>
                <a:lnTo>
                  <a:pt x="14" y="5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271160" y="44737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61160" y="450864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99520" y="4167360"/>
            <a:ext cx="226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44" idx="3"/>
            <a:endCxn id="75" idx="0"/>
          </p:cNvCxnSpPr>
          <p:nvPr/>
        </p:nvCxnSpPr>
        <p:spPr>
          <a:xfrm flipH="1" flipV="1">
            <a:off x="8931240" y="3755160"/>
            <a:ext cx="848160" cy="2372040"/>
          </a:xfrm>
          <a:prstGeom prst="bentConnector3">
            <a:avLst>
              <a:gd name="adj1" fmla="val -27303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6" name=""/>
          <p:cNvGrpSpPr/>
          <p:nvPr/>
        </p:nvGrpSpPr>
        <p:grpSpPr>
          <a:xfrm>
            <a:off x="8883720" y="3216240"/>
            <a:ext cx="107640" cy="107640"/>
            <a:chOff x="8883720" y="3216240"/>
            <a:chExt cx="107640" cy="107640"/>
          </a:xfrm>
        </p:grpSpPr>
        <p:sp>
          <p:nvSpPr>
            <p:cNvPr id="77" name=""/>
            <p:cNvSpPr/>
            <p:nvPr/>
          </p:nvSpPr>
          <p:spPr>
            <a:xfrm flipV="1" rot="16200000">
              <a:off x="8883360" y="3216600"/>
              <a:ext cx="107280" cy="10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10800000">
              <a:off x="8884080" y="3215880"/>
              <a:ext cx="107280" cy="10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8931240" y="367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43" idx="3"/>
            <a:endCxn id="77" idx="0"/>
          </p:cNvCxnSpPr>
          <p:nvPr/>
        </p:nvCxnSpPr>
        <p:spPr>
          <a:xfrm flipH="1" flipV="1">
            <a:off x="8990640" y="3323880"/>
            <a:ext cx="2579400" cy="1455480"/>
          </a:xfrm>
          <a:prstGeom prst="bentConnector3">
            <a:avLst>
              <a:gd name="adj1" fmla="val -896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78" idx="0"/>
            <a:endCxn id="41" idx="2"/>
          </p:cNvCxnSpPr>
          <p:nvPr/>
        </p:nvCxnSpPr>
        <p:spPr>
          <a:xfrm rot="10800000">
            <a:off x="8320320" y="3052440"/>
            <a:ext cx="563760" cy="271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44" idx="0"/>
            <a:endCxn id="83" idx="0"/>
          </p:cNvCxnSpPr>
          <p:nvPr/>
        </p:nvCxnSpPr>
        <p:spPr>
          <a:xfrm flipH="1" flipV="1" rot="5400000">
            <a:off x="9806400" y="4649040"/>
            <a:ext cx="856800" cy="181224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4" name=""/>
          <p:cNvSpPr/>
          <p:nvPr/>
        </p:nvSpPr>
        <p:spPr>
          <a:xfrm>
            <a:off x="11140920" y="5051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42000" y="5942520"/>
            <a:ext cx="13456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odXMultiSurface, X</a:t>
            </a:r>
            <a:r>
              <a:rPr b="0" lang="de-DE" sz="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[1..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79960" y="5356800"/>
            <a:ext cx="13456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odXMultiSurface, X</a:t>
            </a:r>
            <a:r>
              <a:rPr b="0" lang="de-DE" sz="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[2..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44" idx="1"/>
            <a:endCxn id="88" idx="0"/>
          </p:cNvCxnSpPr>
          <p:nvPr/>
        </p:nvCxnSpPr>
        <p:spPr>
          <a:xfrm rot="10800000">
            <a:off x="7025760" y="5325480"/>
            <a:ext cx="1853280" cy="8017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9" name=""/>
          <p:cNvSpPr/>
          <p:nvPr/>
        </p:nvSpPr>
        <p:spPr>
          <a:xfrm>
            <a:off x="7245000" y="5933160"/>
            <a:ext cx="13456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odXMultiSurface, X</a:t>
            </a:r>
            <a:r>
              <a:rPr b="0" lang="de-DE" sz="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[2..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80880" y="52801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330120" y="5843520"/>
            <a:ext cx="24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66080" y="542304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22000" y="6194520"/>
            <a:ext cx="24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804960" y="6200640"/>
            <a:ext cx="24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70840" y="337356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8715240" y="600408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10029960" y="600408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07360" y="367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59600" y="3478320"/>
            <a:ext cx="251928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nsportationComp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339120" y="1716120"/>
            <a:ext cx="184644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nsportationComplex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234880" y="2046240"/>
            <a:ext cx="125892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fficArea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286920" y="4921200"/>
            <a:ext cx="228276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function[0..*]: Auxiliary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urfaceMaterial[0..1]: SurfaceMaterial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7600" y="46371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6760" y="4209120"/>
            <a:ext cx="6109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247680" y="4209120"/>
            <a:ext cx="10195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xiliary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97520" y="4638600"/>
            <a:ext cx="215928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ffic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9388440" y="543240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026120" y="5173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97520" y="4919760"/>
            <a:ext cx="215928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function[0..*]: 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usage[0..*]: TrafficArea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urfaceMaterial[0..1]: SurfaceMaterial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39120" y="2376360"/>
            <a:ext cx="184644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uxiliaryTrafficAreaFunction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39120" y="2046240"/>
            <a:ext cx="184644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ExternalCodeList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nsportationComplexUsag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5" idx="1"/>
            <a:endCxn id="112" idx="0"/>
          </p:cNvCxnSpPr>
          <p:nvPr/>
        </p:nvCxnSpPr>
        <p:spPr>
          <a:xfrm flipH="1" rot="10800000">
            <a:off x="6797160" y="3323520"/>
            <a:ext cx="556560" cy="1458720"/>
          </a:xfrm>
          <a:prstGeom prst="bentConnector3">
            <a:avLst>
              <a:gd name="adj1" fmla="val -4161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13" name=""/>
          <p:cNvGrpSpPr/>
          <p:nvPr/>
        </p:nvGrpSpPr>
        <p:grpSpPr>
          <a:xfrm>
            <a:off x="7353360" y="3216240"/>
            <a:ext cx="107640" cy="107640"/>
            <a:chOff x="7353360" y="3216240"/>
            <a:chExt cx="107640" cy="107640"/>
          </a:xfrm>
        </p:grpSpPr>
        <p:sp>
          <p:nvSpPr>
            <p:cNvPr id="114" name=""/>
            <p:cNvSpPr/>
            <p:nvPr/>
          </p:nvSpPr>
          <p:spPr>
            <a:xfrm flipV="1" rot="16200000">
              <a:off x="7353000" y="3216600"/>
              <a:ext cx="107280" cy="10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 rot="10800000">
              <a:off x="7353720" y="3215880"/>
              <a:ext cx="107280" cy="10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114" idx="0"/>
            <a:endCxn id="116" idx="0"/>
          </p:cNvCxnSpPr>
          <p:nvPr/>
        </p:nvCxnSpPr>
        <p:spPr>
          <a:xfrm flipV="1">
            <a:off x="7460280" y="3057480"/>
            <a:ext cx="861840" cy="266760"/>
          </a:xfrm>
          <a:prstGeom prst="bentConnector4">
            <a:avLst>
              <a:gd name="adj1" fmla="val 46761"/>
              <a:gd name="adj2" fmla="val 18756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8267760" y="305748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46360" y="968400"/>
            <a:ext cx="2505240" cy="318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Application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NoiseRoad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  <a:endCxn id="46" idx="1"/>
          </p:cNvCxnSpPr>
          <p:nvPr/>
        </p:nvCxnSpPr>
        <p:spPr>
          <a:xfrm flipH="1" rot="16200000">
            <a:off x="5050080" y="716760"/>
            <a:ext cx="1234440" cy="1737360"/>
          </a:xfrm>
          <a:prstGeom prst="bentConnector4">
            <a:avLst>
              <a:gd name="adj1" fmla="val -18757"/>
              <a:gd name="adj2" fmla="val 860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3548160" y="1263600"/>
            <a:ext cx="2504880" cy="284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Day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Evening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Nigh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mDay16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Day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Evening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Nigh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pDay16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dtv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DayP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EveningP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NightP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DayL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EveningL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NightLkw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oadSurfaceMaterial0..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oadSurfaceCorrection[1..0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distanceCarriageway[0..1]: gml:LengthTyp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distanceD 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idge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tunnel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oadGradientPercen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ineage[0..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5040" y="976320"/>
            <a:ext cx="262728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Application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NoiseRailway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0"/>
            <a:endCxn id="47" idx="1"/>
          </p:cNvCxnSpPr>
          <p:nvPr/>
        </p:nvCxnSpPr>
        <p:spPr>
          <a:xfrm flipH="1" rot="16200000">
            <a:off x="3438720" y="-513720"/>
            <a:ext cx="1607760" cy="4587480"/>
          </a:xfrm>
          <a:prstGeom prst="bentConnector4">
            <a:avLst>
              <a:gd name="adj1" fmla="val -14400"/>
              <a:gd name="adj2" fmla="val 6431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695160" y="4467240"/>
            <a:ext cx="2502000" cy="153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trainType[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trainTypeCorrection[0..1]: gml:MeasureTyp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akePortionDay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akePortionEvening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akePortionNigh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engthDay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engthEvening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lengthNight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Day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Evening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speedNight[0..1]: gml:Speed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additionalCorrectionTrain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60" y="4179960"/>
            <a:ext cx="250200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Application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14400" y="408456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84520" y="215892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414840" y="2130480"/>
            <a:ext cx="90360" cy="144360"/>
          </a:xfrm>
          <a:custGeom>
            <a:avLst/>
            <a:gdLst/>
            <a:ahLst/>
            <a:rect l="l" t="t" r="r" b="b"/>
            <a:pathLst>
              <a:path w="28" h="55">
                <a:moveTo>
                  <a:pt x="14" y="55"/>
                </a:moveTo>
                <a:lnTo>
                  <a:pt x="0" y="28"/>
                </a:lnTo>
                <a:lnTo>
                  <a:pt x="14" y="0"/>
                </a:lnTo>
                <a:lnTo>
                  <a:pt x="28" y="28"/>
                </a:lnTo>
                <a:lnTo>
                  <a:pt x="14" y="5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6411240" y="2511360"/>
            <a:ext cx="90720" cy="144360"/>
          </a:xfrm>
          <a:custGeom>
            <a:avLst/>
            <a:gdLst/>
            <a:ahLst/>
            <a:rect l="l" t="t" r="r" b="b"/>
            <a:pathLst>
              <a:path w="28" h="55">
                <a:moveTo>
                  <a:pt x="14" y="55"/>
                </a:moveTo>
                <a:lnTo>
                  <a:pt x="0" y="28"/>
                </a:lnTo>
                <a:lnTo>
                  <a:pt x="14" y="0"/>
                </a:lnTo>
                <a:lnTo>
                  <a:pt x="28" y="28"/>
                </a:lnTo>
                <a:lnTo>
                  <a:pt x="14" y="5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98840" y="5033880"/>
            <a:ext cx="79560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Cu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28" idx="0"/>
            <a:endCxn id="119" idx="2"/>
          </p:cNvCxnSpPr>
          <p:nvPr/>
        </p:nvCxnSpPr>
        <p:spPr>
          <a:xfrm flipV="1">
            <a:off x="4796640" y="4110120"/>
            <a:ext cx="4320" cy="92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4654800" y="4903920"/>
            <a:ext cx="129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51560" y="417816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3" idx="0"/>
            <a:endCxn id="133" idx="2"/>
          </p:cNvCxnSpPr>
          <p:nvPr/>
        </p:nvCxnSpPr>
        <p:spPr>
          <a:xfrm flipH="1" flipV="1" rot="5400000">
            <a:off x="925560" y="3158640"/>
            <a:ext cx="2041920" cy="1080"/>
          </a:xfrm>
          <a:prstGeom prst="bentConnector3">
            <a:avLst>
              <a:gd name="adj1" fmla="val 5000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 rot="16200000">
            <a:off x="4534200" y="4487760"/>
            <a:ext cx="69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0Base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4856040" y="493236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1638360" y="3092040"/>
            <a:ext cx="41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used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1820880" y="3357360"/>
            <a:ext cx="54000" cy="53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0" idx="0"/>
            <a:endCxn id="52" idx="0"/>
          </p:cNvCxnSpPr>
          <p:nvPr/>
        </p:nvCxnSpPr>
        <p:spPr>
          <a:xfrm flipH="1" rot="16200000">
            <a:off x="4773960" y="-1848960"/>
            <a:ext cx="727560" cy="6378120"/>
          </a:xfrm>
          <a:prstGeom prst="bentConnector3">
            <a:avLst>
              <a:gd name="adj1" fmla="val -318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17" idx="0"/>
            <a:endCxn id="140" idx="0"/>
          </p:cNvCxnSpPr>
          <p:nvPr/>
        </p:nvCxnSpPr>
        <p:spPr>
          <a:xfrm flipH="1" rot="16200000">
            <a:off x="6199560" y="-432720"/>
            <a:ext cx="727560" cy="3529440"/>
          </a:xfrm>
          <a:prstGeom prst="bentConnector5">
            <a:avLst>
              <a:gd name="adj1" fmla="val -31831"/>
              <a:gd name="adj2" fmla="val 66948"/>
              <a:gd name="adj3" fmla="val 13207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1" name=""/>
          <p:cNvGrpSpPr/>
          <p:nvPr/>
        </p:nvGrpSpPr>
        <p:grpSpPr>
          <a:xfrm>
            <a:off x="4738680" y="762120"/>
            <a:ext cx="107640" cy="107640"/>
            <a:chOff x="4738680" y="762120"/>
            <a:chExt cx="107640" cy="107640"/>
          </a:xfrm>
        </p:grpSpPr>
        <p:sp>
          <p:nvSpPr>
            <p:cNvPr id="142" name=""/>
            <p:cNvSpPr/>
            <p:nvPr/>
          </p:nvSpPr>
          <p:spPr>
            <a:xfrm flipV="1" rot="16200000">
              <a:off x="4738320" y="762480"/>
              <a:ext cx="107280" cy="10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 rot="10800000">
              <a:off x="4739040" y="761760"/>
              <a:ext cx="107280" cy="10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rot="10800000">
            <a:off x="8273880" y="1587600"/>
            <a:ext cx="108000" cy="108000"/>
          </a:xfrm>
          <a:custGeom>
            <a:avLst/>
            <a:gdLst/>
            <a:ahLst/>
            <a:rect l="l" t="t" r="r" b="b"/>
            <a:pathLst>
              <a:path w="42" h="63">
                <a:moveTo>
                  <a:pt x="21" y="0"/>
                </a:moveTo>
                <a:lnTo>
                  <a:pt x="42" y="63"/>
                </a:lnTo>
                <a:lnTo>
                  <a:pt x="0" y="63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34960" y="498960"/>
            <a:ext cx="10393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oiseRoad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53880" y="659160"/>
            <a:ext cx="115344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oiseRailway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4994280" y="56988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2117880" y="73656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3040" y="2963880"/>
            <a:ext cx="79524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Geomet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ml::Cu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00440" y="2833560"/>
            <a:ext cx="129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06560" y="2165400"/>
            <a:ext cx="11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860400" y="2411280"/>
            <a:ext cx="69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d0Base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1173240" y="2846520"/>
            <a:ext cx="54000" cy="54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/>
          <p:nvPr/>
        </p:nvCxnSpPr>
        <p:spPr>
          <a:xfrm flipV="1">
            <a:off x="1122120" y="2153880"/>
            <a:ext cx="108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633240" y="1258920"/>
            <a:ext cx="2627640" cy="87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ailwaySurfaceMaterial[0..1]: xs: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railwaySurfaceCorrection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bridge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crossing[0..1]: xs:boo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curveRadius[0..1]: gml:Length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+additionalCorrectionSegment[0..1]: gml:Measure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16800" y="1703520"/>
            <a:ext cx="161928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5640" bIns="35640" anchor="ctr">
            <a:no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&lt;Feature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Arial"/>
              </a:rPr>
              <a:t>_City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4:50:17Z</dcterms:created>
  <dc:creator>angela</dc:creator>
  <dc:description/>
  <dc:language>en-US</dc:language>
  <cp:lastModifiedBy>angela</cp:lastModifiedBy>
  <dcterms:modified xsi:type="dcterms:W3CDTF">2007-02-09T09:18:47Z</dcterms:modified>
  <cp:revision>5</cp:revision>
  <dc:subject/>
  <dc:title>Folie 1</dc:title>
</cp:coreProperties>
</file>