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80288" cy="3240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54C-2CA9-4009-9CB7-AEF7C79F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240" y="19515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8A3-D206-4ACD-9957-0EF6719E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6776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11E-BA7C-4A03-8802-A8972B38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408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95560" y="9363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224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408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95560" y="1951560"/>
            <a:ext cx="202032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26B-0776-45C3-BC0B-727778CD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58E-3452-4AB7-994C-BA54A2B4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BC6-E2DA-482C-AD38-E3E0A7A7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58A-A7C5-42E6-92A9-379151EA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694-8A62-45F8-A821-CAD24829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2240" y="287280"/>
            <a:ext cx="62751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CC3-A625-478C-BE16-D70AD883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F53-112E-49DD-AE87-84E99AC2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67760" y="19515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9A1-1EB7-4802-92EA-F44D9BDA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224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67760" y="936360"/>
            <a:ext cx="3062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240" y="1951560"/>
            <a:ext cx="6275160" cy="9266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8AE-7BD8-495C-B89A-14995530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2240" y="287280"/>
            <a:ext cx="6275160" cy="5414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2240" y="936360"/>
            <a:ext cx="6275160" cy="194292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88000"/>
          </a:bodyPr>
          <a:p>
            <a:pPr marL="157680" indent="-1576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000" indent="-1310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526320" indent="-10440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737280" indent="-1044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948240" indent="-10584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2240" y="2952720"/>
            <a:ext cx="15397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22160" y="2952720"/>
            <a:ext cx="23353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87680" y="2952720"/>
            <a:ext cx="1539720" cy="2160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A415B3A8-1A2D-4776-BDC9-80FE0D1E5FC8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52280" y="103320"/>
            <a:ext cx="7461000" cy="3000240"/>
            <a:chOff x="-152280" y="103320"/>
            <a:chExt cx="7461000" cy="3000240"/>
          </a:xfrm>
        </p:grpSpPr>
        <p:sp>
          <p:nvSpPr>
            <p:cNvPr id="42" name=""/>
            <p:cNvSpPr/>
            <p:nvPr/>
          </p:nvSpPr>
          <p:spPr>
            <a:xfrm flipH="1">
              <a:off x="2582640" y="1413000"/>
              <a:ext cx="98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78280" y="103320"/>
              <a:ext cx="161892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City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98640" y="1236600"/>
              <a:ext cx="19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9080" y="601560"/>
              <a:ext cx="1079640" cy="28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4" idx="0"/>
              <a:endCxn id="43" idx="2"/>
            </p:cNvCxnSpPr>
            <p:nvPr/>
          </p:nvCxnSpPr>
          <p:spPr>
            <a:xfrm flipH="1" flipV="1">
              <a:off x="4687560" y="390600"/>
              <a:ext cx="1080" cy="84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" name=""/>
            <p:cNvSpPr/>
            <p:nvPr/>
          </p:nvSpPr>
          <p:spPr>
            <a:xfrm>
              <a:off x="4638600" y="392040"/>
              <a:ext cx="108000" cy="10800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1360" y="477720"/>
              <a:ext cx="1390680" cy="28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1360" y="855720"/>
              <a:ext cx="1392120" cy="284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City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62520" y="104760"/>
              <a:ext cx="1545840" cy="445680"/>
              <a:chOff x="5762520" y="104760"/>
              <a:chExt cx="1545840" cy="445680"/>
            </a:xfrm>
          </p:grpSpPr>
          <p:sp>
            <p:nvSpPr>
              <p:cNvPr id="51" name=""/>
              <p:cNvSpPr/>
              <p:nvPr/>
            </p:nvSpPr>
            <p:spPr>
              <a:xfrm>
                <a:off x="5762520" y="104760"/>
                <a:ext cx="1545840" cy="268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PrimitiveTyp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TransformationMatrix4x4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62520" y="370440"/>
                <a:ext cx="1545840" cy="180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+xs:double[16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 flipH="1">
              <a:off x="4440240" y="18018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97000" y="1801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36360" y="1935360"/>
              <a:ext cx="1715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ImplicitRepresentation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63920" y="1930320"/>
              <a:ext cx="115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Geometry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74800" y="233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3" idx="0"/>
            </p:cNvCxnSpPr>
            <p:nvPr/>
          </p:nvCxnSpPr>
          <p:spPr>
            <a:xfrm flipV="1">
              <a:off x="2674800" y="1801800"/>
              <a:ext cx="1765800" cy="533880"/>
            </a:xfrm>
            <a:prstGeom prst="bentConnector3">
              <a:avLst>
                <a:gd name="adj1" fmla="val 5014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59" name=""/>
            <p:cNvSpPr/>
            <p:nvPr/>
          </p:nvSpPr>
          <p:spPr>
            <a:xfrm>
              <a:off x="6229080" y="2311560"/>
              <a:ext cx="10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gml::_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9" idx="0"/>
              <a:endCxn id="54" idx="0"/>
            </p:cNvCxnSpPr>
            <p:nvPr/>
          </p:nvCxnSpPr>
          <p:spPr>
            <a:xfrm flipV="1" rot="16200000">
              <a:off x="5527800" y="1070640"/>
              <a:ext cx="510120" cy="1972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61" name=""/>
            <p:cNvSpPr/>
            <p:nvPr/>
          </p:nvSpPr>
          <p:spPr>
            <a:xfrm>
              <a:off x="2522520" y="2313000"/>
              <a:ext cx="245592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Obje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mplicit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2680" y="1908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57760" y="1908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93880" y="21826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18520" y="218448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98640" y="1521000"/>
              <a:ext cx="19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class[0..1]: City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function[0..*]: City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2520" y="2597040"/>
              <a:ext cx="2455920" cy="50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mimeType[0..1]: 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libraryObject[0..1]: xs:anyU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ransformation[0..1]: TransformationMatrix4x4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1" idx="3"/>
              <a:endCxn id="59" idx="1"/>
            </p:cNvCxnSpPr>
            <p:nvPr/>
          </p:nvCxnSpPr>
          <p:spPr>
            <a:xfrm flipV="1">
              <a:off x="4978440" y="2455200"/>
              <a:ext cx="12510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" name=""/>
            <p:cNvSpPr/>
            <p:nvPr/>
          </p:nvSpPr>
          <p:spPr>
            <a:xfrm>
              <a:off x="5324040" y="2313000"/>
              <a:ext cx="84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lative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85000" y="249228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43240" y="25020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9080" y="2710080"/>
              <a:ext cx="107964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7" idx="3"/>
              <a:endCxn id="72" idx="1"/>
            </p:cNvCxnSpPr>
            <p:nvPr/>
          </p:nvCxnSpPr>
          <p:spPr>
            <a:xfrm>
              <a:off x="4978440" y="2850120"/>
              <a:ext cx="12510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"/>
            <p:cNvSpPr/>
            <p:nvPr/>
          </p:nvSpPr>
          <p:spPr>
            <a:xfrm>
              <a:off x="5043240" y="28893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34920" y="2716200"/>
              <a:ext cx="73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ference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8720" y="1090800"/>
              <a:ext cx="90000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gml::</a:t>
              </a: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 MultiCur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6" idx="2"/>
              <a:endCxn id="66" idx="3"/>
            </p:cNvCxnSpPr>
            <p:nvPr/>
          </p:nvCxnSpPr>
          <p:spPr>
            <a:xfrm rot="5400000">
              <a:off x="6125040" y="931320"/>
              <a:ext cx="286920" cy="1180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5672160" y="1684440"/>
              <a:ext cx="155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TerrainIntersection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1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0720" y="137484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89440" y="1538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7840" y="1600200"/>
              <a:ext cx="5220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440" y="19540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200" y="1490760"/>
              <a:ext cx="2516400" cy="593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ype[0..1]: NoiseCityFurnitureSegment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lection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lectionCorrectio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height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distance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3574800" y="1338120"/>
              <a:ext cx="90720" cy="144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440" y="2540160"/>
              <a:ext cx="795240" cy="287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Cur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280" y="2365920"/>
              <a:ext cx="762120" cy="1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0Base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63640" y="1295280"/>
              <a:ext cx="90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oiseCity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2620800" y="1332000"/>
              <a:ext cx="54000" cy="54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468360"/>
              <a:ext cx="2128680" cy="282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iseCityFurnitureSegment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91" idx="1"/>
            </p:cNvCxnSpPr>
            <p:nvPr/>
          </p:nvCxnSpPr>
          <p:spPr>
            <a:xfrm flipH="1" rot="10800000">
              <a:off x="78840" y="280080"/>
              <a:ext cx="3783600" cy="1082880"/>
            </a:xfrm>
            <a:prstGeom prst="bentConnector3">
              <a:avLst>
                <a:gd name="adj1" fmla="val -61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79200" y="1219320"/>
              <a:ext cx="2516400" cy="287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Application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NoiseCityFurnitureSeg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3760560" y="230040"/>
              <a:ext cx="107640" cy="10800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5:08:26Z</dcterms:created>
  <dc:creator>Birgit Joemann</dc:creator>
  <dc:description/>
  <dc:language>en-US</dc:language>
  <cp:lastModifiedBy>Claus Nagel</cp:lastModifiedBy>
  <dcterms:modified xsi:type="dcterms:W3CDTF">2007-05-31T07:25:49Z</dcterms:modified>
  <cp:revision>47</cp:revision>
  <dc:subject/>
  <dc:title>PowerPoint-Präsentation</dc:title>
</cp:coreProperties>
</file>