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89A-7A82-4254-BE58-899419F3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3D5-9EAC-449C-8CFA-FEEE19EE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B3D-17DF-4A5E-B958-CAD431E1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436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872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000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436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9872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D33-33F5-458C-B977-0F4D973E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F7E-959C-4F32-AFFD-4E23D11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90B-2794-4173-B6AC-6A64A9E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08A-4D26-4B3B-81A3-1D4A758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510-A7FC-4AF8-B4FA-BCC9854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0000" y="288720"/>
            <a:ext cx="113410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DBB-E1B5-4930-BEF4-BB5E303B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D2C-E77D-40E1-9BF7-54CD8852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368-87B9-4F66-94D3-200FDF7F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BE0-386E-4716-BB64-8429B3F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2000"/>
          </a:bodyPr>
          <a:p>
            <a:pPr marL="389520" indent="-389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3254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5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21240" indent="-25992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557760"/>
            <a:ext cx="29397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557760"/>
            <a:ext cx="39909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30960" y="6557760"/>
            <a:ext cx="294012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fld id="{E2342CB6-5E02-4B0E-A87F-40AE16926FD5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01040" y="2765520"/>
            <a:ext cx="14396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Transportation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720440" y="3782880"/>
            <a:ext cx="125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Geometric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86920" y="4635360"/>
            <a:ext cx="228276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79040" y="5983200"/>
            <a:ext cx="900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MultiSu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35800" y="1660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35800" y="2058840"/>
            <a:ext cx="71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35800" y="24400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Rail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35800" y="2803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229840" y="238140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233080" y="171936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52" idx="2"/>
            <a:endCxn id="41" idx="0"/>
          </p:cNvCxnSpPr>
          <p:nvPr/>
        </p:nvCxnSpPr>
        <p:spPr>
          <a:xfrm flipH="1">
            <a:off x="8320680" y="1990800"/>
            <a:ext cx="612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0"/>
            <a:endCxn id="41" idx="2"/>
          </p:cNvCxnSpPr>
          <p:nvPr/>
        </p:nvCxnSpPr>
        <p:spPr>
          <a:xfrm flipV="1">
            <a:off x="8319240" y="3052800"/>
            <a:ext cx="180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5" idx="3"/>
            <a:endCxn id="56" idx="0"/>
          </p:cNvCxnSpPr>
          <p:nvPr/>
        </p:nvCxnSpPr>
        <p:spPr>
          <a:xfrm>
            <a:off x="7254720" y="1804320"/>
            <a:ext cx="153000" cy="1875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6" idx="3"/>
            <a:endCxn id="56" idx="0"/>
          </p:cNvCxnSpPr>
          <p:nvPr/>
        </p:nvCxnSpPr>
        <p:spPr>
          <a:xfrm>
            <a:off x="7254720" y="2202480"/>
            <a:ext cx="153000" cy="147780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7" idx="3"/>
            <a:endCxn id="56" idx="0"/>
          </p:cNvCxnSpPr>
          <p:nvPr/>
        </p:nvCxnSpPr>
        <p:spPr>
          <a:xfrm>
            <a:off x="7254720" y="2583720"/>
            <a:ext cx="153000" cy="10965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8" idx="3"/>
            <a:endCxn id="56" idx="0"/>
          </p:cNvCxnSpPr>
          <p:nvPr/>
        </p:nvCxnSpPr>
        <p:spPr>
          <a:xfrm>
            <a:off x="7254720" y="2947320"/>
            <a:ext cx="153000" cy="732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7059600" y="3757680"/>
            <a:ext cx="251928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3"/>
            <a:endCxn id="42" idx="1"/>
          </p:cNvCxnSpPr>
          <p:nvPr/>
        </p:nvCxnSpPr>
        <p:spPr>
          <a:xfrm flipV="1">
            <a:off x="9578880" y="3926520"/>
            <a:ext cx="114192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63" idx="0"/>
            <a:endCxn id="60" idx="2"/>
          </p:cNvCxnSpPr>
          <p:nvPr/>
        </p:nvCxnSpPr>
        <p:spPr>
          <a:xfrm flipH="1" flipV="1" rot="5400000">
            <a:off x="7339680" y="3657960"/>
            <a:ext cx="537120" cy="1422000"/>
          </a:xfrm>
          <a:prstGeom prst="bentConnector3">
            <a:avLst>
              <a:gd name="adj1" fmla="val 495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3" idx="0"/>
            <a:endCxn id="60" idx="2"/>
          </p:cNvCxnSpPr>
          <p:nvPr/>
        </p:nvCxnSpPr>
        <p:spPr>
          <a:xfrm flipV="1" rot="16200000">
            <a:off x="9106200" y="3313440"/>
            <a:ext cx="535320" cy="210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9845280" y="3750120"/>
            <a:ext cx="710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617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571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73880" y="20019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7353360" y="33717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75680" y="4108320"/>
            <a:ext cx="90360" cy="14472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271160" y="44737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61160" y="45086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9520" y="4167360"/>
            <a:ext cx="226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4" idx="3"/>
            <a:endCxn id="75" idx="0"/>
          </p:cNvCxnSpPr>
          <p:nvPr/>
        </p:nvCxnSpPr>
        <p:spPr>
          <a:xfrm flipH="1" flipV="1">
            <a:off x="8931240" y="3755160"/>
            <a:ext cx="848160" cy="2372040"/>
          </a:xfrm>
          <a:prstGeom prst="bentConnector3">
            <a:avLst>
              <a:gd name="adj1" fmla="val -27303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6" name=""/>
          <p:cNvGrpSpPr/>
          <p:nvPr/>
        </p:nvGrpSpPr>
        <p:grpSpPr>
          <a:xfrm>
            <a:off x="8883720" y="3216240"/>
            <a:ext cx="107640" cy="107640"/>
            <a:chOff x="8883720" y="3216240"/>
            <a:chExt cx="107640" cy="107640"/>
          </a:xfrm>
        </p:grpSpPr>
        <p:sp>
          <p:nvSpPr>
            <p:cNvPr id="77" name=""/>
            <p:cNvSpPr/>
            <p:nvPr/>
          </p:nvSpPr>
          <p:spPr>
            <a:xfrm flipV="1" rot="16200000">
              <a:off x="888336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10800000">
              <a:off x="888408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93124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43" idx="3"/>
            <a:endCxn id="77" idx="0"/>
          </p:cNvCxnSpPr>
          <p:nvPr/>
        </p:nvCxnSpPr>
        <p:spPr>
          <a:xfrm flipH="1" flipV="1">
            <a:off x="8990640" y="3323880"/>
            <a:ext cx="2579400" cy="1455480"/>
          </a:xfrm>
          <a:prstGeom prst="bentConnector3">
            <a:avLst>
              <a:gd name="adj1" fmla="val -89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8" idx="0"/>
            <a:endCxn id="41" idx="2"/>
          </p:cNvCxnSpPr>
          <p:nvPr/>
        </p:nvCxnSpPr>
        <p:spPr>
          <a:xfrm rot="10800000">
            <a:off x="8320320" y="3052440"/>
            <a:ext cx="563760" cy="271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44" idx="0"/>
            <a:endCxn id="83" idx="0"/>
          </p:cNvCxnSpPr>
          <p:nvPr/>
        </p:nvCxnSpPr>
        <p:spPr>
          <a:xfrm flipH="1" flipV="1" rot="5400000">
            <a:off x="9806400" y="4649040"/>
            <a:ext cx="856800" cy="18122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4" name=""/>
          <p:cNvSpPr/>
          <p:nvPr/>
        </p:nvSpPr>
        <p:spPr>
          <a:xfrm>
            <a:off x="11140920" y="5051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42000" y="594252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1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79960" y="535680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44" idx="1"/>
            <a:endCxn id="88" idx="0"/>
          </p:cNvCxnSpPr>
          <p:nvPr/>
        </p:nvCxnSpPr>
        <p:spPr>
          <a:xfrm rot="10800000">
            <a:off x="7025760" y="5325480"/>
            <a:ext cx="1853280" cy="8017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9" name=""/>
          <p:cNvSpPr/>
          <p:nvPr/>
        </p:nvSpPr>
        <p:spPr>
          <a:xfrm>
            <a:off x="7245000" y="593316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80880" y="5280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330120" y="5843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66080" y="54230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22000" y="6194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04960" y="620064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70840" y="3373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871524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002996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0736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59600" y="3478320"/>
            <a:ext cx="25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39120" y="171612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34880" y="204624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286920" y="4921200"/>
            <a:ext cx="228276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600" y="46371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6760" y="4209120"/>
            <a:ext cx="6109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47680" y="4209120"/>
            <a:ext cx="1019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97520" y="4638600"/>
            <a:ext cx="215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9388440" y="543240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026120" y="5173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97520" y="4919760"/>
            <a:ext cx="21592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39120" y="2376360"/>
            <a:ext cx="184644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39120" y="204624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5" idx="1"/>
            <a:endCxn id="112" idx="0"/>
          </p:cNvCxnSpPr>
          <p:nvPr/>
        </p:nvCxnSpPr>
        <p:spPr>
          <a:xfrm flipH="1" rot="10800000">
            <a:off x="6797160" y="3323520"/>
            <a:ext cx="556560" cy="1458720"/>
          </a:xfrm>
          <a:prstGeom prst="bentConnector3">
            <a:avLst>
              <a:gd name="adj1" fmla="val -416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3" name=""/>
          <p:cNvGrpSpPr/>
          <p:nvPr/>
        </p:nvGrpSpPr>
        <p:grpSpPr>
          <a:xfrm>
            <a:off x="7353360" y="3216240"/>
            <a:ext cx="107640" cy="107640"/>
            <a:chOff x="7353360" y="3216240"/>
            <a:chExt cx="107640" cy="107640"/>
          </a:xfrm>
        </p:grpSpPr>
        <p:sp>
          <p:nvSpPr>
            <p:cNvPr id="114" name=""/>
            <p:cNvSpPr/>
            <p:nvPr/>
          </p:nvSpPr>
          <p:spPr>
            <a:xfrm flipV="1" rot="16200000">
              <a:off x="735300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10800000">
              <a:off x="735372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114" idx="0"/>
            <a:endCxn id="116" idx="0"/>
          </p:cNvCxnSpPr>
          <p:nvPr/>
        </p:nvCxnSpPr>
        <p:spPr>
          <a:xfrm flipV="1">
            <a:off x="7460280" y="3057480"/>
            <a:ext cx="861840" cy="266760"/>
          </a:xfrm>
          <a:prstGeom prst="bentConnector4">
            <a:avLst>
              <a:gd name="adj1" fmla="val 46761"/>
              <a:gd name="adj2" fmla="val 1875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8267760" y="305748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46360" y="968400"/>
            <a:ext cx="2505240" cy="3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  <a:endCxn id="46" idx="1"/>
          </p:cNvCxnSpPr>
          <p:nvPr/>
        </p:nvCxnSpPr>
        <p:spPr>
          <a:xfrm flipH="1" rot="16200000">
            <a:off x="5050080" y="716760"/>
            <a:ext cx="1234440" cy="1737360"/>
          </a:xfrm>
          <a:prstGeom prst="bentConnector4">
            <a:avLst>
              <a:gd name="adj1" fmla="val -18757"/>
              <a:gd name="adj2" fmla="val 860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3548160" y="1263600"/>
            <a:ext cx="2504880" cy="284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tv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Material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Correction[1..0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Carriageway[0..1]: gml:Length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D 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unnel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GradientPerc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ineage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040" y="976320"/>
            <a:ext cx="262728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47" idx="1"/>
          </p:cNvCxnSpPr>
          <p:nvPr/>
        </p:nvCxnSpPr>
        <p:spPr>
          <a:xfrm flipH="1" rot="16200000">
            <a:off x="3438720" y="-513720"/>
            <a:ext cx="1607760" cy="4587480"/>
          </a:xfrm>
          <a:prstGeom prst="bentConnector4">
            <a:avLst>
              <a:gd name="adj1" fmla="val -14400"/>
              <a:gd name="adj2" fmla="val 6431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695160" y="4467240"/>
            <a:ext cx="2502000" cy="153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[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Correction[0..1]: gml:Measure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Day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Evening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Night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Trai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60" y="4179960"/>
            <a:ext cx="25020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14400" y="4084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520" y="21589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4840" y="2130480"/>
            <a:ext cx="9036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6411240" y="2511360"/>
            <a:ext cx="9072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8840" y="5033880"/>
            <a:ext cx="7956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28" idx="0"/>
            <a:endCxn id="119" idx="2"/>
          </p:cNvCxnSpPr>
          <p:nvPr/>
        </p:nvCxnSpPr>
        <p:spPr>
          <a:xfrm flipV="1">
            <a:off x="4796640" y="4110120"/>
            <a:ext cx="4320" cy="92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4654800" y="490392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51560" y="41781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3" idx="0"/>
            <a:endCxn id="133" idx="2"/>
          </p:cNvCxnSpPr>
          <p:nvPr/>
        </p:nvCxnSpPr>
        <p:spPr>
          <a:xfrm flipH="1" flipV="1" rot="5400000">
            <a:off x="925560" y="3158640"/>
            <a:ext cx="2041920" cy="1080"/>
          </a:xfrm>
          <a:prstGeom prst="bentConnector3">
            <a:avLst>
              <a:gd name="adj1" fmla="val 500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 rot="16200000">
            <a:off x="4534200" y="448776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4856040" y="49323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1638360" y="3092040"/>
            <a:ext cx="41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sed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1820880" y="3357360"/>
            <a:ext cx="54000" cy="5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0" idx="0"/>
            <a:endCxn id="52" idx="0"/>
          </p:cNvCxnSpPr>
          <p:nvPr/>
        </p:nvCxnSpPr>
        <p:spPr>
          <a:xfrm flipH="1" rot="16200000">
            <a:off x="4773960" y="-1848960"/>
            <a:ext cx="727560" cy="6378120"/>
          </a:xfrm>
          <a:prstGeom prst="bentConnector3">
            <a:avLst>
              <a:gd name="adj1" fmla="val -318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17" idx="0"/>
            <a:endCxn id="140" idx="0"/>
          </p:cNvCxnSpPr>
          <p:nvPr/>
        </p:nvCxnSpPr>
        <p:spPr>
          <a:xfrm flipH="1" rot="16200000">
            <a:off x="6199560" y="-432720"/>
            <a:ext cx="727560" cy="3529440"/>
          </a:xfrm>
          <a:prstGeom prst="bentConnector5">
            <a:avLst>
              <a:gd name="adj1" fmla="val -31831"/>
              <a:gd name="adj2" fmla="val 66948"/>
              <a:gd name="adj3" fmla="val 13207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1" name=""/>
          <p:cNvGrpSpPr/>
          <p:nvPr/>
        </p:nvGrpSpPr>
        <p:grpSpPr>
          <a:xfrm>
            <a:off x="4738680" y="762120"/>
            <a:ext cx="107640" cy="107640"/>
            <a:chOff x="4738680" y="762120"/>
            <a:chExt cx="107640" cy="107640"/>
          </a:xfrm>
        </p:grpSpPr>
        <p:sp>
          <p:nvSpPr>
            <p:cNvPr id="142" name=""/>
            <p:cNvSpPr/>
            <p:nvPr/>
          </p:nvSpPr>
          <p:spPr>
            <a:xfrm flipV="1" rot="16200000">
              <a:off x="4738320" y="76248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10800000">
              <a:off x="4739040" y="76176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rot="10800000">
            <a:off x="8273880" y="158760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4960" y="498960"/>
            <a:ext cx="10393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3880" y="659160"/>
            <a:ext cx="11534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994280" y="5698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117880" y="7365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3040" y="2963880"/>
            <a:ext cx="79524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00440" y="283356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6560" y="216540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60400" y="241128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1173240" y="284652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/>
          <p:nvPr/>
        </p:nvCxnSpPr>
        <p:spPr>
          <a:xfrm flipV="1">
            <a:off x="1122120" y="2153880"/>
            <a:ext cx="10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33240" y="1258920"/>
            <a:ext cx="262764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Material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Correctio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rossing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urveRadius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Segm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16800" y="1703520"/>
            <a:ext cx="16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City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50:17Z</dcterms:created>
  <dc:creator>angela</dc:creator>
  <dc:description/>
  <dc:language>en-US</dc:language>
  <cp:lastModifiedBy>angela</cp:lastModifiedBy>
  <dcterms:modified xsi:type="dcterms:W3CDTF">2007-02-09T09:18:47Z</dcterms:modified>
  <cp:revision>5</cp:revision>
  <dc:subject/>
  <dc:title>Folie 1</dc:title>
</cp:coreProperties>
</file>