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80288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B04-8739-4143-B0F2-AD09A643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E9F-0722-4A37-A91D-A31AF6DD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CA0-EF6A-4595-BF8D-5E519C71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408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556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24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408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9556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867-7107-41DD-AFFF-951054DF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AAC-4FFB-4E1E-8627-A7E2F89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844-E4CA-4075-B66F-7101852A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64B-AFCF-40C5-9379-67CCD6E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E52-148F-40DA-A7A2-DB1EE16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240" y="287280"/>
            <a:ext cx="62751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1A3-BD61-493B-997A-A8B5ED0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0EC-EDB0-4583-8A53-7FA9EEF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AD1-6DAF-40C3-8178-E160B56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0CC-4A3C-4385-B1EF-C8E8BDB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88000"/>
          </a:bodyPr>
          <a:p>
            <a:pPr marL="157680" indent="-1576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000" indent="-1310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52632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73728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224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2160" y="2952720"/>
            <a:ext cx="23353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768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EB5C2C2E-D5BD-4CFD-B296-F18A1DFEF6B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2280" y="103320"/>
            <a:ext cx="7461000" cy="3000240"/>
            <a:chOff x="-152280" y="103320"/>
            <a:chExt cx="7461000" cy="3000240"/>
          </a:xfrm>
        </p:grpSpPr>
        <p:sp>
          <p:nvSpPr>
            <p:cNvPr id="42" name=""/>
            <p:cNvSpPr/>
            <p:nvPr/>
          </p:nvSpPr>
          <p:spPr>
            <a:xfrm flipH="1">
              <a:off x="2582640" y="141300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8280" y="103320"/>
              <a:ext cx="1618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98640" y="12366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9080" y="601560"/>
              <a:ext cx="107964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4" idx="0"/>
              <a:endCxn id="43" idx="2"/>
            </p:cNvCxnSpPr>
            <p:nvPr/>
          </p:nvCxnSpPr>
          <p:spPr>
            <a:xfrm flipH="1" flipV="1">
              <a:off x="4687560" y="390600"/>
              <a:ext cx="1080" cy="84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4638600" y="392040"/>
              <a:ext cx="10800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1360" y="477720"/>
              <a:ext cx="139068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1360" y="855720"/>
              <a:ext cx="1392120" cy="28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62520" y="104760"/>
              <a:ext cx="1545840" cy="445680"/>
              <a:chOff x="5762520" y="104760"/>
              <a:chExt cx="1545840" cy="445680"/>
            </a:xfrm>
          </p:grpSpPr>
          <p:sp>
            <p:nvSpPr>
              <p:cNvPr id="51" name=""/>
              <p:cNvSpPr/>
              <p:nvPr/>
            </p:nvSpPr>
            <p:spPr>
              <a:xfrm>
                <a:off x="5762520" y="104760"/>
                <a:ext cx="1545840" cy="268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62520" y="370440"/>
                <a:ext cx="1545840" cy="180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4440240" y="1801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97000" y="1801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36360" y="1935360"/>
              <a:ext cx="171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ImplicitRepresenta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3920" y="193032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4800" y="233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3" idx="0"/>
            </p:cNvCxnSpPr>
            <p:nvPr/>
          </p:nvCxnSpPr>
          <p:spPr>
            <a:xfrm flipV="1">
              <a:off x="2674800" y="1801800"/>
              <a:ext cx="1765800" cy="533880"/>
            </a:xfrm>
            <a:prstGeom prst="bentConnector3">
              <a:avLst>
                <a:gd name="adj1" fmla="val 5014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" name=""/>
            <p:cNvSpPr/>
            <p:nvPr/>
          </p:nvSpPr>
          <p:spPr>
            <a:xfrm>
              <a:off x="6229080" y="231156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9" idx="0"/>
              <a:endCxn id="54" idx="0"/>
            </p:cNvCxnSpPr>
            <p:nvPr/>
          </p:nvCxnSpPr>
          <p:spPr>
            <a:xfrm flipV="1" rot="16200000">
              <a:off x="5527800" y="1070640"/>
              <a:ext cx="510120" cy="1972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2522520" y="2313000"/>
              <a:ext cx="2455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268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5776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3880" y="218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8520" y="21844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8640" y="15210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2520" y="2597040"/>
              <a:ext cx="2455920" cy="50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libraryObject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4x4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1" idx="3"/>
              <a:endCxn id="59" idx="1"/>
            </p:cNvCxnSpPr>
            <p:nvPr/>
          </p:nvCxnSpPr>
          <p:spPr>
            <a:xfrm flipV="1">
              <a:off x="4978440" y="2455200"/>
              <a:ext cx="1251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5324040" y="231300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5000" y="24922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3240" y="2502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9080" y="271008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7" idx="3"/>
              <a:endCxn id="72" idx="1"/>
            </p:cNvCxnSpPr>
            <p:nvPr/>
          </p:nvCxnSpPr>
          <p:spPr>
            <a:xfrm>
              <a:off x="4978440" y="2850120"/>
              <a:ext cx="1251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5043240" y="2889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4920" y="2716200"/>
              <a:ext cx="73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ference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8720" y="1090800"/>
              <a:ext cx="90000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ml::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Multi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6" idx="2"/>
              <a:endCxn id="66" idx="3"/>
            </p:cNvCxnSpPr>
            <p:nvPr/>
          </p:nvCxnSpPr>
          <p:spPr>
            <a:xfrm rot="5400000">
              <a:off x="6125040" y="931320"/>
              <a:ext cx="286920" cy="1180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5672160" y="1684440"/>
              <a:ext cx="155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TerrainIntersec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720" y="13748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1538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7840" y="1600200"/>
              <a:ext cx="5220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440" y="19540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" y="1490760"/>
              <a:ext cx="2516400" cy="59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ype[0..1]: 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Correctio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distance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574800" y="1338120"/>
              <a:ext cx="90720" cy="144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2540160"/>
              <a:ext cx="79524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280" y="2365920"/>
              <a:ext cx="76212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0Base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3640" y="1295280"/>
              <a:ext cx="90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oise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620800" y="1332000"/>
              <a:ext cx="54000" cy="54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68360"/>
              <a:ext cx="2128680" cy="282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91" idx="1"/>
            </p:cNvCxnSpPr>
            <p:nvPr/>
          </p:nvCxnSpPr>
          <p:spPr>
            <a:xfrm flipH="1" rot="10800000">
              <a:off x="78840" y="280080"/>
              <a:ext cx="3783600" cy="1082880"/>
            </a:xfrm>
            <a:prstGeom prst="bentConnector3">
              <a:avLst>
                <a:gd name="adj1" fmla="val -61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79200" y="1219320"/>
              <a:ext cx="251640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Application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760560" y="230040"/>
              <a:ext cx="10764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5:08:26Z</dcterms:created>
  <dc:creator>Birgit Joemann</dc:creator>
  <dc:description/>
  <dc:language>en-US</dc:language>
  <cp:lastModifiedBy>Claus Nagel</cp:lastModifiedBy>
  <dcterms:modified xsi:type="dcterms:W3CDTF">2007-05-31T07:25:49Z</dcterms:modified>
  <cp:revision>47</cp:revision>
  <dc:subject/>
  <dc:title>PowerPoint-Präsentation</dc:title>
</cp:coreProperties>
</file>