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80288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F41-81CE-4A1C-AF11-C6894F8A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BA1-D15C-48ED-8982-A7ED1716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6C6-397B-449A-BEED-4D15393C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408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9556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224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408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9556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BE0-0159-481C-9837-8B7AB87C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1E5-FC61-47EC-A913-A8A475B2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B18-D217-4AD2-874C-6D9F7520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1A5-EDE8-4395-B6FC-634E0732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F6B-AAB0-4D47-AEC4-DA8F755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2240" y="287280"/>
            <a:ext cx="62751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35D-5EE7-446E-B24F-B26E508E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AE1-FE15-480B-B85E-FD70B24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F74-5006-4A41-9803-AE0D74C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D1A-40A6-4609-BF20-F8D4581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88000"/>
          </a:bodyPr>
          <a:p>
            <a:pPr marL="157680" indent="-1576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000" indent="-1310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52632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73728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224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22160" y="2952720"/>
            <a:ext cx="23353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8768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1785AA52-B262-44DA-908E-EAD73F8B3019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2280" y="103320"/>
            <a:ext cx="7461000" cy="3000240"/>
            <a:chOff x="-152280" y="103320"/>
            <a:chExt cx="7461000" cy="3000240"/>
          </a:xfrm>
        </p:grpSpPr>
        <p:sp>
          <p:nvSpPr>
            <p:cNvPr id="42" name=""/>
            <p:cNvSpPr/>
            <p:nvPr/>
          </p:nvSpPr>
          <p:spPr>
            <a:xfrm flipH="1">
              <a:off x="2582640" y="1413000"/>
              <a:ext cx="98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78280" y="103320"/>
              <a:ext cx="1618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98640" y="12366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9080" y="601560"/>
              <a:ext cx="107964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4" idx="0"/>
              <a:endCxn id="43" idx="2"/>
            </p:cNvCxnSpPr>
            <p:nvPr/>
          </p:nvCxnSpPr>
          <p:spPr>
            <a:xfrm flipH="1" flipV="1">
              <a:off x="4687560" y="390600"/>
              <a:ext cx="1080" cy="84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4638600" y="392040"/>
              <a:ext cx="10800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1360" y="477720"/>
              <a:ext cx="1390680" cy="28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1360" y="855720"/>
              <a:ext cx="1392120" cy="28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62520" y="104760"/>
              <a:ext cx="1545840" cy="445680"/>
              <a:chOff x="5762520" y="104760"/>
              <a:chExt cx="1545840" cy="445680"/>
            </a:xfrm>
          </p:grpSpPr>
          <p:sp>
            <p:nvSpPr>
              <p:cNvPr id="51" name=""/>
              <p:cNvSpPr/>
              <p:nvPr/>
            </p:nvSpPr>
            <p:spPr>
              <a:xfrm>
                <a:off x="5762520" y="104760"/>
                <a:ext cx="1545840" cy="268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62520" y="370440"/>
                <a:ext cx="1545840" cy="180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flipH="1">
              <a:off x="4440240" y="18018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97000" y="1801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36360" y="1935360"/>
              <a:ext cx="171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ImplicitRepresenta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3920" y="193032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4800" y="233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3" idx="0"/>
            </p:cNvCxnSpPr>
            <p:nvPr/>
          </p:nvCxnSpPr>
          <p:spPr>
            <a:xfrm flipV="1">
              <a:off x="2674800" y="1801800"/>
              <a:ext cx="1765800" cy="533880"/>
            </a:xfrm>
            <a:prstGeom prst="bentConnector3">
              <a:avLst>
                <a:gd name="adj1" fmla="val 5014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59" name=""/>
            <p:cNvSpPr/>
            <p:nvPr/>
          </p:nvSpPr>
          <p:spPr>
            <a:xfrm>
              <a:off x="6229080" y="231156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9" idx="0"/>
              <a:endCxn id="54" idx="0"/>
            </p:cNvCxnSpPr>
            <p:nvPr/>
          </p:nvCxnSpPr>
          <p:spPr>
            <a:xfrm flipV="1" rot="16200000">
              <a:off x="5527800" y="1070640"/>
              <a:ext cx="510120" cy="1972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1" name=""/>
            <p:cNvSpPr/>
            <p:nvPr/>
          </p:nvSpPr>
          <p:spPr>
            <a:xfrm>
              <a:off x="2522520" y="2313000"/>
              <a:ext cx="2455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268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5776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93880" y="218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18520" y="21844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8640" y="15210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2520" y="2597040"/>
              <a:ext cx="2455920" cy="50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libraryObject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4x4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1" idx="3"/>
              <a:endCxn id="59" idx="1"/>
            </p:cNvCxnSpPr>
            <p:nvPr/>
          </p:nvCxnSpPr>
          <p:spPr>
            <a:xfrm flipV="1">
              <a:off x="4978440" y="2455200"/>
              <a:ext cx="1251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5324040" y="231300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85000" y="24922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3240" y="2502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9080" y="271008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7" idx="3"/>
              <a:endCxn id="72" idx="1"/>
            </p:cNvCxnSpPr>
            <p:nvPr/>
          </p:nvCxnSpPr>
          <p:spPr>
            <a:xfrm>
              <a:off x="4978440" y="2850120"/>
              <a:ext cx="1251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5043240" y="2889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4920" y="2716200"/>
              <a:ext cx="73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ference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8720" y="1090800"/>
              <a:ext cx="90000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ml::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 Multi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6" idx="2"/>
              <a:endCxn id="66" idx="3"/>
            </p:cNvCxnSpPr>
            <p:nvPr/>
          </p:nvCxnSpPr>
          <p:spPr>
            <a:xfrm rot="5400000">
              <a:off x="6125040" y="931320"/>
              <a:ext cx="286920" cy="1180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5672160" y="1684440"/>
              <a:ext cx="155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TerrainIntersec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0720" y="13748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89440" y="1538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7840" y="1600200"/>
              <a:ext cx="5220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440" y="19540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200" y="1490760"/>
              <a:ext cx="2516400" cy="59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ype[0..1]: 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Correctio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distance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3574800" y="1338120"/>
              <a:ext cx="90720" cy="144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40" y="2540160"/>
              <a:ext cx="79524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280" y="2365920"/>
              <a:ext cx="762120" cy="1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0Base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63640" y="1295280"/>
              <a:ext cx="90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oise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620800" y="1332000"/>
              <a:ext cx="54000" cy="54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68360"/>
              <a:ext cx="2128680" cy="282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91" idx="1"/>
            </p:cNvCxnSpPr>
            <p:nvPr/>
          </p:nvCxnSpPr>
          <p:spPr>
            <a:xfrm flipH="1" rot="10800000">
              <a:off x="78840" y="280080"/>
              <a:ext cx="3783600" cy="1082880"/>
            </a:xfrm>
            <a:prstGeom prst="bentConnector3">
              <a:avLst>
                <a:gd name="adj1" fmla="val -61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79200" y="1219320"/>
              <a:ext cx="251640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Application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3760560" y="230040"/>
              <a:ext cx="10764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5:08:26Z</dcterms:created>
  <dc:creator>Birgit Joemann</dc:creator>
  <dc:description/>
  <dc:language>en-US</dc:language>
  <cp:lastModifiedBy>Claus Nagel</cp:lastModifiedBy>
  <dcterms:modified xsi:type="dcterms:W3CDTF">2007-05-31T07:25:49Z</dcterms:modified>
  <cp:revision>47</cp:revision>
  <dc:subject/>
  <dc:title>PowerPoint-Präsentation</dc:title>
</cp:coreProperties>
</file>