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12350-C4A2-458E-906C-A2AD678C3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E8D3C-D056-41D2-9526-CEC8AED36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4C73E-4E88-43F6-B50D-C071BE488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27827-0348-4189-9FA8-08BB751C6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889AB-05E0-42D0-8C69-E8671B590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3DB7B-36AF-456C-B21C-D33CE9B43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FCF4D-DBF3-49AC-96E5-ABBBB6CED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25D24-93A4-4B62-B56D-449EEBE5A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335C1-F1D9-4B95-AD18-E197282FC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5EB5A-A93B-46FB-B805-96963153E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DA511-5659-4E17-AB4A-C14FC73E5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4A2BE-4FB4-4F84-A80F-2B7B3A734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5E6C7-698B-42F0-9B46-EA972BFE55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png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066680" y="3498840"/>
          <a:ext cx="3048120" cy="1301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3498840"/>
                    <a:ext cx="3048120" cy="130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228600" y="533520"/>
            <a:ext cx="2361960" cy="2285640"/>
            <a:chOff x="228600" y="533520"/>
            <a:chExt cx="2361960" cy="2285640"/>
          </a:xfrm>
        </p:grpSpPr>
        <p:grpSp>
          <p:nvGrpSpPr>
            <p:cNvPr id="44" name=""/>
            <p:cNvGrpSpPr/>
            <p:nvPr/>
          </p:nvGrpSpPr>
          <p:grpSpPr>
            <a:xfrm>
              <a:off x="228600" y="533520"/>
              <a:ext cx="2361600" cy="2220120"/>
              <a:chOff x="228600" y="533520"/>
              <a:chExt cx="2361600" cy="2220120"/>
            </a:xfrm>
          </p:grpSpPr>
          <p:graphicFrame>
            <p:nvGraphicFramePr>
              <p:cNvPr id="45" name=""/>
              <p:cNvGraphicFramePr/>
              <p:nvPr/>
            </p:nvGraphicFramePr>
            <p:xfrm>
              <a:off x="228600" y="533520"/>
              <a:ext cx="1398960" cy="123336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46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228600" y="533520"/>
                        <a:ext cx="1398960" cy="12333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47" name=""/>
              <p:cNvGraphicFramePr/>
              <p:nvPr/>
            </p:nvGraphicFramePr>
            <p:xfrm>
              <a:off x="639000" y="740880"/>
              <a:ext cx="1951200" cy="201276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48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639000" y="740880"/>
                        <a:ext cx="1951200" cy="20127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49" name=""/>
            <p:cNvSpPr/>
            <p:nvPr/>
          </p:nvSpPr>
          <p:spPr>
            <a:xfrm>
              <a:off x="228600" y="533520"/>
              <a:ext cx="2361960" cy="228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50" name=""/>
          <p:cNvGraphicFramePr/>
          <p:nvPr/>
        </p:nvGraphicFramePr>
        <p:xfrm>
          <a:off x="5410080" y="4114800"/>
          <a:ext cx="1905120" cy="1825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410080" y="4114800"/>
                    <a:ext cx="1905120" cy="182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3338640" y="3733920"/>
            <a:ext cx="2057400" cy="1295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29000" y="4449600"/>
            <a:ext cx="36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3884760" y="685800"/>
          <a:ext cx="1815840" cy="182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884760" y="685800"/>
                    <a:ext cx="181584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"/>
          <p:cNvSpPr/>
          <p:nvPr/>
        </p:nvSpPr>
        <p:spPr>
          <a:xfrm>
            <a:off x="976320" y="3352680"/>
            <a:ext cx="3276720" cy="160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262320" y="3581280"/>
            <a:ext cx="213372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167440" y="3886200"/>
            <a:ext cx="1828800" cy="228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9880" y="609480"/>
            <a:ext cx="1967040" cy="19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6477120" y="808200"/>
          <a:ext cx="2209680" cy="14778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477120" y="808200"/>
                    <a:ext cx="2209680" cy="147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"/>
          <p:cNvSpPr/>
          <p:nvPr/>
        </p:nvSpPr>
        <p:spPr>
          <a:xfrm>
            <a:off x="6338880" y="685800"/>
            <a:ext cx="2500200" cy="1676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638680" y="13716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6553080" y="2362320"/>
            <a:ext cx="1143000" cy="1828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6400440" y="4876920"/>
            <a:ext cx="305280" cy="228600"/>
            <a:chOff x="6400440" y="4876920"/>
            <a:chExt cx="305280" cy="228600"/>
          </a:xfrm>
        </p:grpSpPr>
        <p:sp>
          <p:nvSpPr>
            <p:cNvPr id="66" name=""/>
            <p:cNvSpPr/>
            <p:nvPr/>
          </p:nvSpPr>
          <p:spPr>
            <a:xfrm>
              <a:off x="6400800" y="487692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705720" y="48769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6400440" y="510552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2438280" y="10666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057400" y="838080"/>
            <a:ext cx="3124080" cy="320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86000" y="2209680"/>
            <a:ext cx="2142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980720" y="22096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30760" y="30492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35640" y="312408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126760" y="365760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326640" y="45720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1219320" y="8380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447920" y="10666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0666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8T20:11:25Z</dcterms:created>
  <dc:creator>Tom Fennelly</dc:creator>
  <dc:description/>
  <dc:language>en-US</dc:language>
  <cp:lastModifiedBy>Tom Fennelly</cp:lastModifiedBy>
  <dcterms:modified xsi:type="dcterms:W3CDTF">2005-07-01T16:24:15Z</dcterms:modified>
  <cp:revision>5</cp:revision>
  <dc:subject/>
  <dc:title>PowerPoint Presentation</dc:title>
</cp:coreProperties>
</file>