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3EC4-7C3A-46D4-AA8C-194E0B616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A4DA-C4E7-4972-B9CA-D2D391329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C77C-351A-4384-B056-E8907FF72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D8E2-AA6F-4A3F-8141-17FF076B0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468A-4CBF-4742-9075-CDFE53C35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FBCF-FBDB-4DCD-AE24-CFF30A700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1760-D265-4171-B078-3EA232C7D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0086-FE64-4B9B-90E8-F8C8D220D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305A-0C1E-4D60-9CC0-E13396318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EEDE-7D1C-40C6-97AC-69D105010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B6F2-D360-4423-AB94-EA7302E1C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DB90-CFCA-4E89-81FC-5C0B17ED1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C037E-6F71-4BE4-9914-EDE729C3AD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66680" y="3498840"/>
          <a:ext cx="3048120" cy="13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498840"/>
                    <a:ext cx="304812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228600" y="533520"/>
            <a:ext cx="2361960" cy="2285640"/>
            <a:chOff x="228600" y="533520"/>
            <a:chExt cx="2361960" cy="2285640"/>
          </a:xfrm>
        </p:grpSpPr>
        <p:grpSp>
          <p:nvGrpSpPr>
            <p:cNvPr id="44" name=""/>
            <p:cNvGrpSpPr/>
            <p:nvPr/>
          </p:nvGrpSpPr>
          <p:grpSpPr>
            <a:xfrm>
              <a:off x="228600" y="533520"/>
              <a:ext cx="2361600" cy="2220120"/>
              <a:chOff x="228600" y="533520"/>
              <a:chExt cx="2361600" cy="2220120"/>
            </a:xfrm>
          </p:grpSpPr>
          <p:graphicFrame>
            <p:nvGraphicFramePr>
              <p:cNvPr id="45" name=""/>
              <p:cNvGraphicFramePr/>
              <p:nvPr/>
            </p:nvGraphicFramePr>
            <p:xfrm>
              <a:off x="228600" y="533520"/>
              <a:ext cx="1398960" cy="12333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28600" y="533520"/>
                        <a:ext cx="1398960" cy="1233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7" name=""/>
              <p:cNvGraphicFramePr/>
              <p:nvPr/>
            </p:nvGraphicFramePr>
            <p:xfrm>
              <a:off x="639000" y="740880"/>
              <a:ext cx="1951200" cy="20127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8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639000" y="740880"/>
                        <a:ext cx="1951200" cy="2012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49" name=""/>
            <p:cNvSpPr/>
            <p:nvPr/>
          </p:nvSpPr>
          <p:spPr>
            <a:xfrm>
              <a:off x="228600" y="533520"/>
              <a:ext cx="2361960" cy="228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0" name=""/>
          <p:cNvGraphicFramePr/>
          <p:nvPr/>
        </p:nvGraphicFramePr>
        <p:xfrm>
          <a:off x="5410080" y="4114800"/>
          <a:ext cx="1905120" cy="182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10080" y="4114800"/>
                    <a:ext cx="190512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3338640" y="3733920"/>
            <a:ext cx="205740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29000" y="444960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884760" y="685800"/>
          <a:ext cx="1815840" cy="182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84760" y="685800"/>
                    <a:ext cx="181584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976320" y="3352680"/>
            <a:ext cx="327672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62320" y="3581280"/>
            <a:ext cx="213372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67440" y="3886200"/>
            <a:ext cx="18288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609480"/>
            <a:ext cx="1967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477120" y="808200"/>
          <a:ext cx="2209680" cy="1477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77120" y="808200"/>
                    <a:ext cx="2209680" cy="14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338880" y="685800"/>
            <a:ext cx="25002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1371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553080" y="2362320"/>
            <a:ext cx="114300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6400440" y="4876920"/>
            <a:ext cx="305280" cy="228600"/>
            <a:chOff x="6400440" y="4876920"/>
            <a:chExt cx="305280" cy="228600"/>
          </a:xfrm>
        </p:grpSpPr>
        <p:sp>
          <p:nvSpPr>
            <p:cNvPr id="66" name=""/>
            <p:cNvSpPr/>
            <p:nvPr/>
          </p:nvSpPr>
          <p:spPr>
            <a:xfrm>
              <a:off x="6400800" y="4876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705720" y="4876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6400440" y="51055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438280" y="1066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838080"/>
            <a:ext cx="312408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2209680"/>
            <a:ext cx="214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980720" y="2209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0760" y="30492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35640" y="312408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26760" y="36576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26640" y="4572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219320" y="838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1066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066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20:11:25Z</dcterms:created>
  <dc:creator>Tom Fennelly</dc:creator>
  <dc:description/>
  <dc:language>en-US</dc:language>
  <cp:lastModifiedBy>Tom Fennelly</cp:lastModifiedBy>
  <dcterms:modified xsi:type="dcterms:W3CDTF">2005-07-01T16:24:15Z</dcterms:modified>
  <cp:revision>5</cp:revision>
  <dc:subject/>
  <dc:title>PowerPoint Presentation</dc:title>
</cp:coreProperties>
</file>